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carbrake.wav" ContentType="audio/x-wav"/>
  <Override PartName="/ppt/media/image14.jpeg" ContentType="image/jpeg"/>
  <Override PartName="/ppt/media/image1.wmf" ContentType="image/x-wm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370B-3D54-4337-BC86-1218A374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69C5-835A-4755-AD8F-9159A7D5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001C-0703-4B2A-9BC8-90E50131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C74C-A7F5-410C-A626-A6961CF4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BFF4-F1EC-41B5-92C2-1650F6E7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A145-D6FF-4F39-9B9B-8451C459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3560-1D4E-46A1-B4CC-F888A424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4C2C-BF20-4592-B8E5-E86EB192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3480-D0FB-4FEC-B333-565E9EAA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040D-E364-46CE-B73A-D3CA7FD2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92D2-4DC2-4A9D-9E58-35D9CABF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81C0-EAE6-47EB-B1EE-A5ECE119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EFF6-3F05-4284-9318-E216DBC0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D621-90C7-4999-BC62-3631771B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5177-81A9-415F-8E64-5A13D5DB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D902-E46A-4E7B-91A1-2B72976E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762E-E11E-419C-9D14-1A0EEA48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EAF6-AFC9-4F56-9965-0C53DE31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CC36-8295-40E3-9877-DE2A2BB1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F05C-4A0A-4E34-9864-CF010C63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8039-6AE6-496B-A81B-1C7AA6F6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DB83-E308-48C7-A62B-4C167F47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304-D364-4C01-B235-20363BB7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9049-ED64-483E-BAC7-2F5F92C4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84E3-48A2-4517-A210-46B6EB97736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032F-DDE3-47DB-8F25-45608E25B10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hu/imgres?imgurl=http://www.airmauritius.co.jp/spot/staubin.jpg&amp;imgrefurl=http://www.airmauritius.co.jp/spot.html&amp;h=130&amp;w=200&amp;sz=10&amp;tbnid=S4dq9VAkkszgmM:&amp;tbnh=64&amp;tbnw=99&amp;hl=hu&amp;start=48&amp;prev=/images%3Fq%3DBois%2BCh%25C3%25A9ri%26start%3D40%26svnum%3D10%26hl%3Dhu%26lr%3D%26sa%3DN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://aihaven.net/TRAVELS/Mauritius/pictures/113-1305_IMG.jpg" TargetMode="External"/><Relationship Id="rId4" Type="http://schemas.openxmlformats.org/officeDocument/2006/relationships/image" Target="../media/image18.jpeg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9.xml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irds.mu/Extinct/Images/Dodo1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anyonefortee.com/Scoring/Pix/dodo4.jpg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tomcockrem.com/library/mauritius/creolecolours/images/sega%20dance%20at%20domaine%20les%20pailles2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o.hu/imgres?imgurl=http://www.livingtravel.com/indianocean/mauritius/mauritius0021.JPG&amp;imgrefurl=http://www.livingtravel.com/indianocean/mauritius/mauritius_1.htm&amp;h=327&amp;w=450&amp;sz=41&amp;tbnid=WxVAPuHsSr2zeM:&amp;tbnh=90&amp;tbnw=124&amp;hl=hu&amp;start=6&amp;prev=/images%3Fq%3Dsega%2Bdance%26svnum%3D10%26hl%3Dhu%26lr%3D%26sa%3DN" TargetMode="External"/><Relationship Id="rId4" Type="http://schemas.openxmlformats.org/officeDocument/2006/relationships/image" Target="../media/image25.jpeg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5.xml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3.xml"/><Relationship Id="rId5" Type="http://schemas.openxmlformats.org/officeDocument/2006/relationships/slide" Target="slide19.xml"/><Relationship Id="rId6" Type="http://schemas.openxmlformats.org/officeDocument/2006/relationships/slide" Target="slide18.xml"/><Relationship Id="rId7" Type="http://schemas.openxmlformats.org/officeDocument/2006/relationships/slide" Target="slide17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8.xm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Mauritius</a:t>
            </a:r>
            <a:br>
              <a:rPr sz="3600"/>
            </a:b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68000" y="170028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ccff99"/>
                </a:solidFill>
                <a:latin typeface="Arial"/>
              </a:rPr>
              <a:t>„</a:t>
            </a:r>
            <a:r>
              <a:rPr b="0" i="1" lang="hu-HU" sz="3200" spc="-1" strike="noStrike">
                <a:solidFill>
                  <a:srgbClr val="ccff99"/>
                </a:solidFill>
                <a:latin typeface="Arial"/>
              </a:rPr>
              <a:t>Isten először megalkotta Mauritiust, majd lemásolta és létrehozta belőle az Édenkertet” (Rudyard Kipling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16360" y="5373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Készítette: Méhésze Enikő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3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750"/>
                            </p:stCondLst>
                            <p:childTnLst>
                              <p:par>
                                <p:cTn id="8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11970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90 éves és 270 kg-osra nőtt példányokat lehet megtekinteni. Különleges teremtményeket lehet megfigyelni ebben a trópusi oázisban; a zöld gekkó, a madagaszkári sörtés sün, a Jáva szarvas, a japán Koi ponty, a gyümölcsevő denevér és még sok más különféle állatfaj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2" name="otodik" descr=""/>
          <p:cNvPicPr/>
          <p:nvPr/>
        </p:nvPicPr>
        <p:blipFill>
          <a:blip r:embed="rId1"/>
          <a:stretch/>
        </p:blipFill>
        <p:spPr>
          <a:xfrm>
            <a:off x="3132000" y="278136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rId2" action="ppaction://hlinksldjump"/>
          </p:cNvPr>
          <p:cNvSpPr/>
          <p:nvPr/>
        </p:nvSpPr>
        <p:spPr>
          <a:xfrm>
            <a:off x="6084720" y="5950080"/>
            <a:ext cx="2667240" cy="533160"/>
          </a:xfrm>
          <a:custGeom>
            <a:avLst/>
            <a:gdLst>
              <a:gd name="textAreaLeft" fmla="*/ 98280 w 2667240"/>
              <a:gd name="textAreaRight" fmla="*/ 2568960 w 2667240"/>
              <a:gd name="textAreaTop" fmla="*/ 98280 h 533160"/>
              <a:gd name="textAreaBottom" fmla="*/ 434880 h 53316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4014" y="3986"/>
                </a:lnTo>
                <a:lnTo>
                  <a:pt x="3986" y="3986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4014" y="17614"/>
                </a:lnTo>
                <a:lnTo>
                  <a:pt x="104014" y="3986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3986" y="17614"/>
                </a:lnTo>
                <a:lnTo>
                  <a:pt x="104014" y="17614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3986" y="3986"/>
                </a:lnTo>
                <a:lnTo>
                  <a:pt x="3986" y="1761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Vissz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280" y="33336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ff99"/>
                </a:solidFill>
                <a:uFillTx/>
                <a:latin typeface="Arial"/>
              </a:rPr>
              <a:t>Teknőspark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1341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Itt a teakészítés különböző szakaszaival lehet megismerkedni és természetesen meg is lehet kóstolni a teakülönlegességeket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2637000"/>
            <a:ext cx="2089080" cy="1350720"/>
          </a:xfrm>
          <a:prstGeom prst="rect">
            <a:avLst/>
          </a:prstGeom>
          <a:ln w="0">
            <a:noFill/>
          </a:ln>
        </p:spPr>
      </p:pic>
      <p:sp>
        <p:nvSpPr>
          <p:cNvPr id="277" name="">
            <a:hlinkClick r:id="rId3" action="ppaction://hlinksldjump"/>
          </p:cNvPr>
          <p:cNvSpPr/>
          <p:nvPr/>
        </p:nvSpPr>
        <p:spPr>
          <a:xfrm>
            <a:off x="5867280" y="5867280"/>
            <a:ext cx="2667240" cy="533520"/>
          </a:xfrm>
          <a:custGeom>
            <a:avLst/>
            <a:gdLst>
              <a:gd name="textAreaLeft" fmla="*/ 98280 w 2667240"/>
              <a:gd name="textAreaRight" fmla="*/ 2568960 w 2667240"/>
              <a:gd name="textAreaTop" fmla="*/ 98280 h 533520"/>
              <a:gd name="textAreaBottom" fmla="*/ 435240 h 533520"/>
            </a:gdLst>
            <a:ahLst/>
            <a:rect l="textAreaLeft" t="textAreaTop" r="textAreaRight" b="textAreaBottom"/>
            <a:pathLst>
              <a:path w="107927" h="21600">
                <a:moveTo>
                  <a:pt x="0" y="0"/>
                </a:moveTo>
                <a:lnTo>
                  <a:pt x="107927" y="0"/>
                </a:lnTo>
                <a:lnTo>
                  <a:pt x="107927" y="21600"/>
                </a:lnTo>
                <a:lnTo>
                  <a:pt x="0" y="21600"/>
                </a:lnTo>
                <a:close/>
              </a:path>
              <a:path fill="lightenLess" w="107927" h="21600">
                <a:moveTo>
                  <a:pt x="0" y="0"/>
                </a:moveTo>
                <a:lnTo>
                  <a:pt x="107927" y="0"/>
                </a:lnTo>
                <a:lnTo>
                  <a:pt x="103941" y="3986"/>
                </a:lnTo>
                <a:lnTo>
                  <a:pt x="3986" y="3986"/>
                </a:lnTo>
                <a:close/>
              </a:path>
              <a:path fill="darken" w="107927" h="21600">
                <a:moveTo>
                  <a:pt x="107927" y="0"/>
                </a:moveTo>
                <a:lnTo>
                  <a:pt x="107927" y="21600"/>
                </a:lnTo>
                <a:lnTo>
                  <a:pt x="103941" y="17614"/>
                </a:lnTo>
                <a:lnTo>
                  <a:pt x="103941" y="3986"/>
                </a:lnTo>
                <a:close/>
              </a:path>
              <a:path fill="darkenLess" w="107927" h="21600">
                <a:moveTo>
                  <a:pt x="107927" y="21600"/>
                </a:moveTo>
                <a:lnTo>
                  <a:pt x="0" y="21600"/>
                </a:lnTo>
                <a:lnTo>
                  <a:pt x="3986" y="17614"/>
                </a:lnTo>
                <a:lnTo>
                  <a:pt x="103941" y="17614"/>
                </a:lnTo>
                <a:close/>
              </a:path>
              <a:path fill="lighten" w="107927" h="21600">
                <a:moveTo>
                  <a:pt x="0" y="21600"/>
                </a:moveTo>
                <a:lnTo>
                  <a:pt x="0" y="0"/>
                </a:lnTo>
                <a:lnTo>
                  <a:pt x="3986" y="3986"/>
                </a:lnTo>
                <a:lnTo>
                  <a:pt x="3986" y="1761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Vissz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333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ccff99"/>
                </a:solidFill>
                <a:uFillTx/>
                <a:latin typeface="Arial"/>
              </a:rPr>
              <a:t>Bois Chér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1341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Hét lépcsőben 295 méter magasról zubog lefelé az ezüstösen csillogó vízfüggöny. Az alatta kiszélesedő folyómederben, pedig meg is lehet mártózni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0" name="MAURITIUS-Black%20River%20Gorges%20National%20Park-02" descr=""/>
          <p:cNvPicPr/>
          <p:nvPr/>
        </p:nvPicPr>
        <p:blipFill>
          <a:blip r:embed="rId1"/>
          <a:stretch/>
        </p:blipFill>
        <p:spPr>
          <a:xfrm>
            <a:off x="2411280" y="2349360"/>
            <a:ext cx="3349800" cy="3349800"/>
          </a:xfrm>
          <a:prstGeom prst="rect">
            <a:avLst/>
          </a:prstGeom>
          <a:ln w="0">
            <a:noFill/>
          </a:ln>
        </p:spPr>
      </p:pic>
      <p:sp>
        <p:nvSpPr>
          <p:cNvPr id="281" name="">
            <a:hlinkClick r:id="rId2" action="ppaction://hlinksldjump"/>
          </p:cNvPr>
          <p:cNvSpPr/>
          <p:nvPr/>
        </p:nvSpPr>
        <p:spPr>
          <a:xfrm>
            <a:off x="6324480" y="6095880"/>
            <a:ext cx="2667240" cy="533520"/>
          </a:xfrm>
          <a:custGeom>
            <a:avLst/>
            <a:gdLst>
              <a:gd name="textAreaLeft" fmla="*/ 98280 w 2667240"/>
              <a:gd name="textAreaRight" fmla="*/ 2568960 w 2667240"/>
              <a:gd name="textAreaTop" fmla="*/ 98280 h 533520"/>
              <a:gd name="textAreaBottom" fmla="*/ 435240 h 533520"/>
            </a:gdLst>
            <a:ahLst/>
            <a:rect l="textAreaLeft" t="textAreaTop" r="textAreaRight" b="textAreaBottom"/>
            <a:pathLst>
              <a:path w="107927" h="21600">
                <a:moveTo>
                  <a:pt x="0" y="0"/>
                </a:moveTo>
                <a:lnTo>
                  <a:pt x="107927" y="0"/>
                </a:lnTo>
                <a:lnTo>
                  <a:pt x="107927" y="21600"/>
                </a:lnTo>
                <a:lnTo>
                  <a:pt x="0" y="21600"/>
                </a:lnTo>
                <a:close/>
              </a:path>
              <a:path fill="lightenLess" w="107927" h="21600">
                <a:moveTo>
                  <a:pt x="0" y="0"/>
                </a:moveTo>
                <a:lnTo>
                  <a:pt x="107927" y="0"/>
                </a:lnTo>
                <a:lnTo>
                  <a:pt x="103941" y="3986"/>
                </a:lnTo>
                <a:lnTo>
                  <a:pt x="3986" y="3986"/>
                </a:lnTo>
                <a:close/>
              </a:path>
              <a:path fill="darken" w="107927" h="21600">
                <a:moveTo>
                  <a:pt x="107927" y="0"/>
                </a:moveTo>
                <a:lnTo>
                  <a:pt x="107927" y="21600"/>
                </a:lnTo>
                <a:lnTo>
                  <a:pt x="103941" y="17614"/>
                </a:lnTo>
                <a:lnTo>
                  <a:pt x="103941" y="3986"/>
                </a:lnTo>
                <a:close/>
              </a:path>
              <a:path fill="darkenLess" w="107927" h="21600">
                <a:moveTo>
                  <a:pt x="107927" y="21600"/>
                </a:moveTo>
                <a:lnTo>
                  <a:pt x="0" y="21600"/>
                </a:lnTo>
                <a:lnTo>
                  <a:pt x="3986" y="17614"/>
                </a:lnTo>
                <a:lnTo>
                  <a:pt x="103941" y="17614"/>
                </a:lnTo>
                <a:close/>
              </a:path>
              <a:path fill="lighten" w="107927" h="21600">
                <a:moveTo>
                  <a:pt x="0" y="21600"/>
                </a:moveTo>
                <a:lnTo>
                  <a:pt x="0" y="0"/>
                </a:lnTo>
                <a:lnTo>
                  <a:pt x="3986" y="3986"/>
                </a:lnTo>
                <a:lnTo>
                  <a:pt x="3986" y="1761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Vissz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9280" y="260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ccff99"/>
                </a:solidFill>
                <a:uFillTx/>
                <a:latin typeface="Arial"/>
              </a:rPr>
              <a:t>Tamarind vízesé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1341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A Seewoosagur Ramgoolam botanikus kert a Pamplemousses nevű kicsiny falucska mellett található. A kert különleges növényeivel Mauritius egyik legfontosabb látnivalója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4" name="JardinPamplemousses" descr=""/>
          <p:cNvPicPr/>
          <p:nvPr/>
        </p:nvPicPr>
        <p:blipFill>
          <a:blip r:embed="rId1"/>
          <a:stretch/>
        </p:blipFill>
        <p:spPr>
          <a:xfrm>
            <a:off x="1116000" y="2997360"/>
            <a:ext cx="2438280" cy="1733400"/>
          </a:xfrm>
          <a:prstGeom prst="rect">
            <a:avLst/>
          </a:prstGeom>
          <a:ln w="0">
            <a:noFill/>
          </a:ln>
        </p:spPr>
      </p:pic>
      <p:pic>
        <p:nvPicPr>
          <p:cNvPr id="285" name="lilliessm" descr=""/>
          <p:cNvPicPr/>
          <p:nvPr/>
        </p:nvPicPr>
        <p:blipFill>
          <a:blip r:embed="rId2"/>
          <a:stretch/>
        </p:blipFill>
        <p:spPr>
          <a:xfrm>
            <a:off x="5724360" y="2924280"/>
            <a:ext cx="2567160" cy="1701720"/>
          </a:xfrm>
          <a:prstGeom prst="rect">
            <a:avLst/>
          </a:prstGeom>
          <a:ln w="0">
            <a:noFill/>
          </a:ln>
        </p:spPr>
      </p:pic>
      <p:pic>
        <p:nvPicPr>
          <p:cNvPr id="286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4797360"/>
            <a:ext cx="1577880" cy="1752840"/>
          </a:xfrm>
          <a:prstGeom prst="rect">
            <a:avLst/>
          </a:prstGeom>
          <a:ln w="0">
            <a:noFill/>
          </a:ln>
        </p:spPr>
      </p:pic>
      <p:sp>
        <p:nvSpPr>
          <p:cNvPr id="287" name="">
            <a:hlinkClick r:id="rId5" action="ppaction://hlinksldjump"/>
          </p:cNvPr>
          <p:cNvSpPr/>
          <p:nvPr/>
        </p:nvSpPr>
        <p:spPr>
          <a:xfrm>
            <a:off x="6172200" y="5943600"/>
            <a:ext cx="2666880" cy="533520"/>
          </a:xfrm>
          <a:custGeom>
            <a:avLst/>
            <a:gdLst>
              <a:gd name="textAreaLeft" fmla="*/ 98280 w 2666880"/>
              <a:gd name="textAreaRight" fmla="*/ 2568600 w 2666880"/>
              <a:gd name="textAreaTop" fmla="*/ 98280 h 533520"/>
              <a:gd name="textAreaBottom" fmla="*/ 435240 h 533520"/>
            </a:gdLst>
            <a:ahLst/>
            <a:rect l="textAreaLeft" t="textAreaTop" r="textAreaRight" b="textAreaBottom"/>
            <a:pathLst>
              <a:path w="107913" h="21600">
                <a:moveTo>
                  <a:pt x="0" y="0"/>
                </a:moveTo>
                <a:lnTo>
                  <a:pt x="107913" y="0"/>
                </a:lnTo>
                <a:lnTo>
                  <a:pt x="107913" y="21600"/>
                </a:lnTo>
                <a:lnTo>
                  <a:pt x="0" y="21600"/>
                </a:lnTo>
                <a:close/>
              </a:path>
              <a:path fill="lightenLess" w="107913" h="21600">
                <a:moveTo>
                  <a:pt x="0" y="0"/>
                </a:moveTo>
                <a:lnTo>
                  <a:pt x="107913" y="0"/>
                </a:lnTo>
                <a:lnTo>
                  <a:pt x="103927" y="3986"/>
                </a:lnTo>
                <a:lnTo>
                  <a:pt x="3986" y="3986"/>
                </a:lnTo>
                <a:close/>
              </a:path>
              <a:path fill="darken" w="107913" h="21600">
                <a:moveTo>
                  <a:pt x="107913" y="0"/>
                </a:moveTo>
                <a:lnTo>
                  <a:pt x="107913" y="21600"/>
                </a:lnTo>
                <a:lnTo>
                  <a:pt x="103927" y="17614"/>
                </a:lnTo>
                <a:lnTo>
                  <a:pt x="103927" y="3986"/>
                </a:lnTo>
                <a:close/>
              </a:path>
              <a:path fill="darkenLess" w="107913" h="21600">
                <a:moveTo>
                  <a:pt x="107913" y="21600"/>
                </a:moveTo>
                <a:lnTo>
                  <a:pt x="0" y="21600"/>
                </a:lnTo>
                <a:lnTo>
                  <a:pt x="3986" y="17614"/>
                </a:lnTo>
                <a:lnTo>
                  <a:pt x="103927" y="17614"/>
                </a:lnTo>
                <a:close/>
              </a:path>
              <a:path fill="lighten" w="107913" h="21600">
                <a:moveTo>
                  <a:pt x="0" y="21600"/>
                </a:moveTo>
                <a:lnTo>
                  <a:pt x="0" y="0"/>
                </a:lnTo>
                <a:lnTo>
                  <a:pt x="3986" y="3986"/>
                </a:lnTo>
                <a:lnTo>
                  <a:pt x="3986" y="1761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Vissz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8360" y="549360"/>
            <a:ext cx="58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3336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ccff99"/>
                </a:solidFill>
                <a:uFillTx/>
                <a:latin typeface="Arial"/>
              </a:rPr>
              <a:t>Seewoosagur Ramgoola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8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0" y="1197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A főváros, a sziget északnyugati részén fekszik. Napközben nyüzsgő, forgalmas kereskedelmi központ, éjszaka pedig a szórakozásé a város. A Le Caudan sétányon rengeteg kaszinó, mozi, üzlet, bár, étterem és disco található. A város piaci forgatagában mindenféle egzotikus gyümölcsöt, zöldséget, halat, ajándéktárgyat és fűszert lehet kapni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">
            <a:hlinkClick r:id="rId2" action="ppaction://hlinksldjump"/>
          </p:cNvPr>
          <p:cNvSpPr/>
          <p:nvPr/>
        </p:nvSpPr>
        <p:spPr>
          <a:xfrm>
            <a:off x="6095880" y="5867280"/>
            <a:ext cx="2667240" cy="533520"/>
          </a:xfrm>
          <a:custGeom>
            <a:avLst/>
            <a:gdLst>
              <a:gd name="textAreaLeft" fmla="*/ 98280 w 2667240"/>
              <a:gd name="textAreaRight" fmla="*/ 2568960 w 2667240"/>
              <a:gd name="textAreaTop" fmla="*/ 98280 h 533520"/>
              <a:gd name="textAreaBottom" fmla="*/ 435240 h 533520"/>
            </a:gdLst>
            <a:ahLst/>
            <a:rect l="textAreaLeft" t="textAreaTop" r="textAreaRight" b="textAreaBottom"/>
            <a:pathLst>
              <a:path w="107927" h="21600">
                <a:moveTo>
                  <a:pt x="0" y="0"/>
                </a:moveTo>
                <a:lnTo>
                  <a:pt x="107927" y="0"/>
                </a:lnTo>
                <a:lnTo>
                  <a:pt x="107927" y="21600"/>
                </a:lnTo>
                <a:lnTo>
                  <a:pt x="0" y="21600"/>
                </a:lnTo>
                <a:close/>
              </a:path>
              <a:path fill="lightenLess" w="107927" h="21600">
                <a:moveTo>
                  <a:pt x="0" y="0"/>
                </a:moveTo>
                <a:lnTo>
                  <a:pt x="107927" y="0"/>
                </a:lnTo>
                <a:lnTo>
                  <a:pt x="103941" y="3986"/>
                </a:lnTo>
                <a:lnTo>
                  <a:pt x="3986" y="3986"/>
                </a:lnTo>
                <a:close/>
              </a:path>
              <a:path fill="darken" w="107927" h="21600">
                <a:moveTo>
                  <a:pt x="107927" y="0"/>
                </a:moveTo>
                <a:lnTo>
                  <a:pt x="107927" y="21600"/>
                </a:lnTo>
                <a:lnTo>
                  <a:pt x="103941" y="17614"/>
                </a:lnTo>
                <a:lnTo>
                  <a:pt x="103941" y="3986"/>
                </a:lnTo>
                <a:close/>
              </a:path>
              <a:path fill="darkenLess" w="107927" h="21600">
                <a:moveTo>
                  <a:pt x="107927" y="21600"/>
                </a:moveTo>
                <a:lnTo>
                  <a:pt x="0" y="21600"/>
                </a:lnTo>
                <a:lnTo>
                  <a:pt x="3986" y="17614"/>
                </a:lnTo>
                <a:lnTo>
                  <a:pt x="103941" y="17614"/>
                </a:lnTo>
                <a:close/>
              </a:path>
              <a:path fill="lighten" w="107927" h="21600">
                <a:moveTo>
                  <a:pt x="0" y="21600"/>
                </a:moveTo>
                <a:lnTo>
                  <a:pt x="0" y="0"/>
                </a:lnTo>
                <a:lnTo>
                  <a:pt x="3986" y="3986"/>
                </a:lnTo>
                <a:lnTo>
                  <a:pt x="3986" y="1761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Vissz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2602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ccff99"/>
                </a:solidFill>
                <a:uFillTx/>
                <a:latin typeface="Arial"/>
              </a:rPr>
              <a:t>Port-Lui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1052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A17. századtól kezdve mutatja be a galambok, dodók és egyéb különleges madárfajok életét</a:t>
            </a:r>
            <a:r>
              <a:rPr b="0" lang="hu-HU" sz="1800" spc="-1" strike="noStrike">
                <a:solidFill>
                  <a:srgbClr val="99ffcc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206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A dodó tragédiáj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6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3284640"/>
            <a:ext cx="1600200" cy="1361880"/>
          </a:xfrm>
          <a:prstGeom prst="rect">
            <a:avLst/>
          </a:prstGeom>
          <a:ln w="0">
            <a:noFill/>
          </a:ln>
        </p:spPr>
      </p:pic>
      <p:pic>
        <p:nvPicPr>
          <p:cNvPr id="297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213000"/>
            <a:ext cx="1676520" cy="12654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3780000" y="3284640"/>
            <a:ext cx="1828800" cy="1160280"/>
          </a:xfrm>
          <a:prstGeom prst="rect">
            <a:avLst/>
          </a:prstGeom>
          <a:ln w="0">
            <a:noFill/>
          </a:ln>
        </p:spPr>
      </p:pic>
      <p:sp>
        <p:nvSpPr>
          <p:cNvPr id="299" name="">
            <a:hlinkClick r:id="rId6" action="ppaction://hlinksldjump"/>
          </p:cNvPr>
          <p:cNvSpPr/>
          <p:nvPr/>
        </p:nvSpPr>
        <p:spPr>
          <a:xfrm>
            <a:off x="6172200" y="5943600"/>
            <a:ext cx="2666880" cy="533520"/>
          </a:xfrm>
          <a:custGeom>
            <a:avLst/>
            <a:gdLst>
              <a:gd name="textAreaLeft" fmla="*/ 98280 w 2666880"/>
              <a:gd name="textAreaRight" fmla="*/ 2568600 w 2666880"/>
              <a:gd name="textAreaTop" fmla="*/ 98280 h 533520"/>
              <a:gd name="textAreaBottom" fmla="*/ 435240 h 533520"/>
            </a:gdLst>
            <a:ahLst/>
            <a:rect l="textAreaLeft" t="textAreaTop" r="textAreaRight" b="textAreaBottom"/>
            <a:pathLst>
              <a:path w="107913" h="21600">
                <a:moveTo>
                  <a:pt x="0" y="0"/>
                </a:moveTo>
                <a:lnTo>
                  <a:pt x="107913" y="0"/>
                </a:lnTo>
                <a:lnTo>
                  <a:pt x="107913" y="21600"/>
                </a:lnTo>
                <a:lnTo>
                  <a:pt x="0" y="21600"/>
                </a:lnTo>
                <a:close/>
              </a:path>
              <a:path fill="lightenLess" w="107913" h="21600">
                <a:moveTo>
                  <a:pt x="0" y="0"/>
                </a:moveTo>
                <a:lnTo>
                  <a:pt x="107913" y="0"/>
                </a:lnTo>
                <a:lnTo>
                  <a:pt x="103927" y="3986"/>
                </a:lnTo>
                <a:lnTo>
                  <a:pt x="3986" y="3986"/>
                </a:lnTo>
                <a:close/>
              </a:path>
              <a:path fill="darken" w="107913" h="21600">
                <a:moveTo>
                  <a:pt x="107913" y="0"/>
                </a:moveTo>
                <a:lnTo>
                  <a:pt x="107913" y="21600"/>
                </a:lnTo>
                <a:lnTo>
                  <a:pt x="103927" y="17614"/>
                </a:lnTo>
                <a:lnTo>
                  <a:pt x="103927" y="3986"/>
                </a:lnTo>
                <a:close/>
              </a:path>
              <a:path fill="darkenLess" w="107913" h="21600">
                <a:moveTo>
                  <a:pt x="107913" y="21600"/>
                </a:moveTo>
                <a:lnTo>
                  <a:pt x="0" y="21600"/>
                </a:lnTo>
                <a:lnTo>
                  <a:pt x="3986" y="17614"/>
                </a:lnTo>
                <a:lnTo>
                  <a:pt x="103927" y="17614"/>
                </a:lnTo>
                <a:close/>
              </a:path>
              <a:path fill="lighten" w="107913" h="21600">
                <a:moveTo>
                  <a:pt x="0" y="21600"/>
                </a:moveTo>
                <a:lnTo>
                  <a:pt x="0" y="0"/>
                </a:lnTo>
                <a:lnTo>
                  <a:pt x="3986" y="3986"/>
                </a:lnTo>
                <a:lnTo>
                  <a:pt x="3986" y="1761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Vissz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76360" y="692280"/>
            <a:ext cx="56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260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ff99"/>
                </a:solidFill>
                <a:uFillTx/>
                <a:latin typeface="Arial"/>
              </a:rPr>
              <a:t>Természettörténeti Múzeu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8500"/>
                            </p:stCondLst>
                            <p:childTnLst>
                              <p:par>
                                <p:cTn id="149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155736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Nagyon régi és értékes bélyegkollekciókat mutatnak be. Itt őrzik a világ leghíresebb bélyegét, a „Kék Mauritius”-t. A szigetlakók szerint négy van belőle, máshol úgy húszról tudnak. Valamikor 500 volt, de a többi eltűnt, megsemmisült vagy ismeretlen gyűjtemények mélyén lappang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3" name="belyeg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514600" cy="1349640"/>
          </a:xfrm>
          <a:prstGeom prst="rect">
            <a:avLst/>
          </a:prstGeom>
          <a:ln w="0">
            <a:noFill/>
          </a:ln>
        </p:spPr>
      </p:pic>
      <p:sp>
        <p:nvSpPr>
          <p:cNvPr id="304" name="">
            <a:hlinkClick r:id="rId2" action="ppaction://hlinksldjump"/>
          </p:cNvPr>
          <p:cNvSpPr/>
          <p:nvPr/>
        </p:nvSpPr>
        <p:spPr>
          <a:xfrm>
            <a:off x="6095880" y="5943600"/>
            <a:ext cx="2667240" cy="533520"/>
          </a:xfrm>
          <a:custGeom>
            <a:avLst/>
            <a:gdLst>
              <a:gd name="textAreaLeft" fmla="*/ 98280 w 2667240"/>
              <a:gd name="textAreaRight" fmla="*/ 2568960 w 2667240"/>
              <a:gd name="textAreaTop" fmla="*/ 98280 h 533520"/>
              <a:gd name="textAreaBottom" fmla="*/ 435240 h 533520"/>
            </a:gdLst>
            <a:ahLst/>
            <a:rect l="textAreaLeft" t="textAreaTop" r="textAreaRight" b="textAreaBottom"/>
            <a:pathLst>
              <a:path w="107927" h="21600">
                <a:moveTo>
                  <a:pt x="0" y="0"/>
                </a:moveTo>
                <a:lnTo>
                  <a:pt x="107927" y="0"/>
                </a:lnTo>
                <a:lnTo>
                  <a:pt x="107927" y="21600"/>
                </a:lnTo>
                <a:lnTo>
                  <a:pt x="0" y="21600"/>
                </a:lnTo>
                <a:close/>
              </a:path>
              <a:path fill="lightenLess" w="107927" h="21600">
                <a:moveTo>
                  <a:pt x="0" y="0"/>
                </a:moveTo>
                <a:lnTo>
                  <a:pt x="107927" y="0"/>
                </a:lnTo>
                <a:lnTo>
                  <a:pt x="103941" y="3986"/>
                </a:lnTo>
                <a:lnTo>
                  <a:pt x="3986" y="3986"/>
                </a:lnTo>
                <a:close/>
              </a:path>
              <a:path fill="darken" w="107927" h="21600">
                <a:moveTo>
                  <a:pt x="107927" y="0"/>
                </a:moveTo>
                <a:lnTo>
                  <a:pt x="107927" y="21600"/>
                </a:lnTo>
                <a:lnTo>
                  <a:pt x="103941" y="17614"/>
                </a:lnTo>
                <a:lnTo>
                  <a:pt x="103941" y="3986"/>
                </a:lnTo>
                <a:close/>
              </a:path>
              <a:path fill="darkenLess" w="107927" h="21600">
                <a:moveTo>
                  <a:pt x="107927" y="21600"/>
                </a:moveTo>
                <a:lnTo>
                  <a:pt x="0" y="21600"/>
                </a:lnTo>
                <a:lnTo>
                  <a:pt x="3986" y="17614"/>
                </a:lnTo>
                <a:lnTo>
                  <a:pt x="103941" y="17614"/>
                </a:lnTo>
                <a:close/>
              </a:path>
              <a:path fill="lighten" w="107927" h="21600">
                <a:moveTo>
                  <a:pt x="0" y="21600"/>
                </a:moveTo>
                <a:lnTo>
                  <a:pt x="0" y="0"/>
                </a:lnTo>
                <a:lnTo>
                  <a:pt x="3986" y="3986"/>
                </a:lnTo>
                <a:lnTo>
                  <a:pt x="3986" y="1761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Vissz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0920" y="33336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99"/>
                </a:solidFill>
                <a:uFillTx/>
                <a:latin typeface="Arial"/>
              </a:rPr>
              <a:t>Postamúzeu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1413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A legkedveltebb és leggyakrabban bemutatott tánc a szigeten. Az Afrikából Madagaszkáron keresztül Mauritiusra érkező tánc a szigetlakók boldogság és öröm utáni vágyát fejezi ki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8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429000"/>
            <a:ext cx="2681280" cy="1733400"/>
          </a:xfrm>
          <a:prstGeom prst="rect">
            <a:avLst/>
          </a:prstGeom>
          <a:ln w="0">
            <a:noFill/>
          </a:ln>
        </p:spPr>
      </p:pic>
      <p:pic>
        <p:nvPicPr>
          <p:cNvPr id="309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3352680"/>
            <a:ext cx="2743200" cy="1725840"/>
          </a:xfrm>
          <a:prstGeom prst="rect">
            <a:avLst/>
          </a:prstGeom>
          <a:ln w="0">
            <a:noFill/>
          </a:ln>
        </p:spPr>
      </p:pic>
      <p:sp>
        <p:nvSpPr>
          <p:cNvPr id="310" name="">
            <a:hlinkClick r:id="rId5" action="ppaction://hlinksldjump"/>
          </p:cNvPr>
          <p:cNvSpPr/>
          <p:nvPr/>
        </p:nvSpPr>
        <p:spPr>
          <a:xfrm>
            <a:off x="6019920" y="5943600"/>
            <a:ext cx="2666880" cy="533520"/>
          </a:xfrm>
          <a:custGeom>
            <a:avLst/>
            <a:gdLst>
              <a:gd name="textAreaLeft" fmla="*/ 98280 w 2666880"/>
              <a:gd name="textAreaRight" fmla="*/ 2568600 w 2666880"/>
              <a:gd name="textAreaTop" fmla="*/ 98280 h 533520"/>
              <a:gd name="textAreaBottom" fmla="*/ 435240 h 533520"/>
            </a:gdLst>
            <a:ahLst/>
            <a:rect l="textAreaLeft" t="textAreaTop" r="textAreaRight" b="textAreaBottom"/>
            <a:pathLst>
              <a:path w="107913" h="21600">
                <a:moveTo>
                  <a:pt x="0" y="0"/>
                </a:moveTo>
                <a:lnTo>
                  <a:pt x="107913" y="0"/>
                </a:lnTo>
                <a:lnTo>
                  <a:pt x="107913" y="21600"/>
                </a:lnTo>
                <a:lnTo>
                  <a:pt x="0" y="21600"/>
                </a:lnTo>
                <a:close/>
              </a:path>
              <a:path fill="lightenLess" w="107913" h="21600">
                <a:moveTo>
                  <a:pt x="0" y="0"/>
                </a:moveTo>
                <a:lnTo>
                  <a:pt x="107913" y="0"/>
                </a:lnTo>
                <a:lnTo>
                  <a:pt x="103927" y="3986"/>
                </a:lnTo>
                <a:lnTo>
                  <a:pt x="3986" y="3986"/>
                </a:lnTo>
                <a:close/>
              </a:path>
              <a:path fill="darken" w="107913" h="21600">
                <a:moveTo>
                  <a:pt x="107913" y="0"/>
                </a:moveTo>
                <a:lnTo>
                  <a:pt x="107913" y="21600"/>
                </a:lnTo>
                <a:lnTo>
                  <a:pt x="103927" y="17614"/>
                </a:lnTo>
                <a:lnTo>
                  <a:pt x="103927" y="3986"/>
                </a:lnTo>
                <a:close/>
              </a:path>
              <a:path fill="darkenLess" w="107913" h="21600">
                <a:moveTo>
                  <a:pt x="107913" y="21600"/>
                </a:moveTo>
                <a:lnTo>
                  <a:pt x="0" y="21600"/>
                </a:lnTo>
                <a:lnTo>
                  <a:pt x="3986" y="17614"/>
                </a:lnTo>
                <a:lnTo>
                  <a:pt x="103927" y="17614"/>
                </a:lnTo>
                <a:close/>
              </a:path>
              <a:path fill="lighten" w="107913" h="21600">
                <a:moveTo>
                  <a:pt x="0" y="21600"/>
                </a:moveTo>
                <a:lnTo>
                  <a:pt x="0" y="0"/>
                </a:lnTo>
                <a:lnTo>
                  <a:pt x="3986" y="3986"/>
                </a:lnTo>
                <a:lnTo>
                  <a:pt x="3986" y="1761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Vissz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79280" y="333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ccff99"/>
                </a:solidFill>
                <a:uFillTx/>
                <a:latin typeface="Arial"/>
              </a:rPr>
              <a:t>Sega tánc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2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1413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Mauritius dél-nyugati részén található ez a lenyűgöző természeti képződmény. A különlegessége abban rejlik, hogy ez egy réteg lávaföld, ami különböző hőmérsékletűre hűlt le illetve a földben magas a fémtartalom, így mutatja „hétszínűnek” magát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2556000" y="3429000"/>
            <a:ext cx="3047760" cy="2133720"/>
          </a:xfrm>
          <a:prstGeom prst="rect">
            <a:avLst/>
          </a:prstGeom>
          <a:ln w="0">
            <a:noFill/>
          </a:ln>
        </p:spPr>
      </p:pic>
      <p:sp>
        <p:nvSpPr>
          <p:cNvPr id="314" name="">
            <a:hlinkClick r:id="rId2" action="ppaction://hlinksldjump"/>
          </p:cNvPr>
          <p:cNvSpPr/>
          <p:nvPr/>
        </p:nvSpPr>
        <p:spPr>
          <a:xfrm>
            <a:off x="5943600" y="6019920"/>
            <a:ext cx="2666880" cy="533160"/>
          </a:xfrm>
          <a:custGeom>
            <a:avLst/>
            <a:gdLst>
              <a:gd name="textAreaLeft" fmla="*/ 98280 w 2666880"/>
              <a:gd name="textAreaRight" fmla="*/ 2568600 w 2666880"/>
              <a:gd name="textAreaTop" fmla="*/ 98280 h 533160"/>
              <a:gd name="textAreaBottom" fmla="*/ 434880 h 533160"/>
            </a:gdLst>
            <a:ahLst/>
            <a:rect l="textAreaLeft" t="textAreaTop" r="textAreaRight" b="textAreaBottom"/>
            <a:pathLst>
              <a:path w="107985" h="21600">
                <a:moveTo>
                  <a:pt x="0" y="0"/>
                </a:moveTo>
                <a:lnTo>
                  <a:pt x="107985" y="0"/>
                </a:lnTo>
                <a:lnTo>
                  <a:pt x="107985" y="21600"/>
                </a:lnTo>
                <a:lnTo>
                  <a:pt x="0" y="21600"/>
                </a:lnTo>
                <a:close/>
              </a:path>
              <a:path fill="lightenLess" w="107985" h="21600">
                <a:moveTo>
                  <a:pt x="0" y="0"/>
                </a:moveTo>
                <a:lnTo>
                  <a:pt x="107985" y="0"/>
                </a:lnTo>
                <a:lnTo>
                  <a:pt x="104000" y="3986"/>
                </a:lnTo>
                <a:lnTo>
                  <a:pt x="3986" y="3986"/>
                </a:lnTo>
                <a:close/>
              </a:path>
              <a:path fill="darken" w="107985" h="21600">
                <a:moveTo>
                  <a:pt x="107985" y="0"/>
                </a:moveTo>
                <a:lnTo>
                  <a:pt x="107985" y="21600"/>
                </a:lnTo>
                <a:lnTo>
                  <a:pt x="104000" y="17614"/>
                </a:lnTo>
                <a:lnTo>
                  <a:pt x="104000" y="3986"/>
                </a:lnTo>
                <a:close/>
              </a:path>
              <a:path fill="darkenLess" w="107985" h="21600">
                <a:moveTo>
                  <a:pt x="107985" y="21600"/>
                </a:moveTo>
                <a:lnTo>
                  <a:pt x="0" y="21600"/>
                </a:lnTo>
                <a:lnTo>
                  <a:pt x="3986" y="17614"/>
                </a:lnTo>
                <a:lnTo>
                  <a:pt x="104000" y="17614"/>
                </a:lnTo>
                <a:close/>
              </a:path>
              <a:path fill="lighten" w="107985" h="21600">
                <a:moveTo>
                  <a:pt x="0" y="21600"/>
                </a:moveTo>
                <a:lnTo>
                  <a:pt x="0" y="0"/>
                </a:lnTo>
                <a:lnTo>
                  <a:pt x="3986" y="3986"/>
                </a:lnTo>
                <a:lnTo>
                  <a:pt x="3986" y="1761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Vissz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18900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ff99"/>
                </a:solidFill>
                <a:uFillTx/>
                <a:latin typeface="Arial"/>
              </a:rPr>
              <a:t>Hét színű föl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156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26920" y="3068640"/>
            <a:ext cx="4427640" cy="33274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0" y="1341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ffcc"/>
                </a:solidFill>
                <a:latin typeface="Arial"/>
              </a:rPr>
              <a:t>Kínai újév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ffcc"/>
                </a:solidFill>
                <a:latin typeface="Arial"/>
              </a:rPr>
              <a:t>Teemeedee és a hindu Thaipoosam Cavade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ffcc"/>
                </a:solidFill>
                <a:latin typeface="Arial"/>
              </a:rPr>
              <a:t>Shiva tiszteletére elzarándokolnak a Grand Bassin tóhoz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">
            <a:hlinkClick r:id="rId2" action="ppaction://hlinksldjump"/>
          </p:cNvPr>
          <p:cNvSpPr/>
          <p:nvPr/>
        </p:nvSpPr>
        <p:spPr>
          <a:xfrm>
            <a:off x="6172200" y="5791320"/>
            <a:ext cx="2666880" cy="533160"/>
          </a:xfrm>
          <a:custGeom>
            <a:avLst/>
            <a:gdLst>
              <a:gd name="textAreaLeft" fmla="*/ 98280 w 2666880"/>
              <a:gd name="textAreaRight" fmla="*/ 2568600 w 2666880"/>
              <a:gd name="textAreaTop" fmla="*/ 98280 h 533160"/>
              <a:gd name="textAreaBottom" fmla="*/ 434880 h 533160"/>
            </a:gdLst>
            <a:ahLst/>
            <a:rect l="textAreaLeft" t="textAreaTop" r="textAreaRight" b="textAreaBottom"/>
            <a:pathLst>
              <a:path w="107985" h="21600">
                <a:moveTo>
                  <a:pt x="0" y="0"/>
                </a:moveTo>
                <a:lnTo>
                  <a:pt x="107985" y="0"/>
                </a:lnTo>
                <a:lnTo>
                  <a:pt x="107985" y="21600"/>
                </a:lnTo>
                <a:lnTo>
                  <a:pt x="0" y="21600"/>
                </a:lnTo>
                <a:close/>
              </a:path>
              <a:path fill="lightenLess" w="107985" h="21600">
                <a:moveTo>
                  <a:pt x="0" y="0"/>
                </a:moveTo>
                <a:lnTo>
                  <a:pt x="107985" y="0"/>
                </a:lnTo>
                <a:lnTo>
                  <a:pt x="104000" y="3986"/>
                </a:lnTo>
                <a:lnTo>
                  <a:pt x="3986" y="3986"/>
                </a:lnTo>
                <a:close/>
              </a:path>
              <a:path fill="darken" w="107985" h="21600">
                <a:moveTo>
                  <a:pt x="107985" y="0"/>
                </a:moveTo>
                <a:lnTo>
                  <a:pt x="107985" y="21600"/>
                </a:lnTo>
                <a:lnTo>
                  <a:pt x="104000" y="17614"/>
                </a:lnTo>
                <a:lnTo>
                  <a:pt x="104000" y="3986"/>
                </a:lnTo>
                <a:close/>
              </a:path>
              <a:path fill="darkenLess" w="107985" h="21600">
                <a:moveTo>
                  <a:pt x="107985" y="21600"/>
                </a:moveTo>
                <a:lnTo>
                  <a:pt x="0" y="21600"/>
                </a:lnTo>
                <a:lnTo>
                  <a:pt x="3986" y="17614"/>
                </a:lnTo>
                <a:lnTo>
                  <a:pt x="104000" y="17614"/>
                </a:lnTo>
                <a:close/>
              </a:path>
              <a:path fill="lighten" w="107985" h="21600">
                <a:moveTo>
                  <a:pt x="0" y="21600"/>
                </a:moveTo>
                <a:lnTo>
                  <a:pt x="0" y="0"/>
                </a:lnTo>
                <a:lnTo>
                  <a:pt x="3986" y="3986"/>
                </a:lnTo>
                <a:lnTo>
                  <a:pt x="3986" y="1761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Vissz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5280" y="40464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ff99"/>
                </a:solidFill>
                <a:uFillTx/>
                <a:latin typeface="Arial"/>
              </a:rPr>
              <a:t>Ünnepek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79280" y="476280"/>
            <a:ext cx="5184720" cy="865080"/>
          </a:xfrm>
          <a:custGeom>
            <a:avLst/>
            <a:gdLst>
              <a:gd name="textAreaLeft" fmla="*/ 84960 w 5184720"/>
              <a:gd name="textAreaRight" fmla="*/ 5099760 w 5184720"/>
              <a:gd name="textAreaTop" fmla="*/ 84960 h 865080"/>
              <a:gd name="textAreaBottom" fmla="*/ 780120 h 865080"/>
            </a:gdLst>
            <a:ahLst/>
            <a:rect l="textAreaLeft" t="textAreaTop" r="textAreaRight" b="textAreaBottom"/>
            <a:pathLst>
              <a:path w="129411" h="21600">
                <a:moveTo>
                  <a:pt x="0" y="0"/>
                </a:moveTo>
                <a:lnTo>
                  <a:pt x="129411" y="0"/>
                </a:lnTo>
                <a:lnTo>
                  <a:pt x="129411" y="21600"/>
                </a:lnTo>
                <a:lnTo>
                  <a:pt x="0" y="21600"/>
                </a:lnTo>
                <a:close/>
              </a:path>
              <a:path fill="lightenLess" w="129411" h="21600">
                <a:moveTo>
                  <a:pt x="0" y="0"/>
                </a:moveTo>
                <a:lnTo>
                  <a:pt x="129411" y="0"/>
                </a:lnTo>
                <a:lnTo>
                  <a:pt x="127290" y="2121"/>
                </a:lnTo>
                <a:lnTo>
                  <a:pt x="2121" y="2121"/>
                </a:lnTo>
                <a:close/>
              </a:path>
              <a:path fill="darken" w="129411" h="21600">
                <a:moveTo>
                  <a:pt x="129411" y="0"/>
                </a:moveTo>
                <a:lnTo>
                  <a:pt x="129411" y="21600"/>
                </a:lnTo>
                <a:lnTo>
                  <a:pt x="127290" y="19479"/>
                </a:lnTo>
                <a:lnTo>
                  <a:pt x="127290" y="2121"/>
                </a:lnTo>
                <a:close/>
              </a:path>
              <a:path fill="darkenLess" w="129411" h="21600">
                <a:moveTo>
                  <a:pt x="129411" y="21600"/>
                </a:moveTo>
                <a:lnTo>
                  <a:pt x="0" y="21600"/>
                </a:lnTo>
                <a:lnTo>
                  <a:pt x="2121" y="19479"/>
                </a:lnTo>
                <a:lnTo>
                  <a:pt x="127290" y="19479"/>
                </a:lnTo>
                <a:close/>
              </a:path>
              <a:path fill="lighten" w="129411" h="21600">
                <a:moveTo>
                  <a:pt x="0" y="21600"/>
                </a:moveTo>
                <a:lnTo>
                  <a:pt x="0" y="0"/>
                </a:lnTo>
                <a:lnTo>
                  <a:pt x="2121" y="2121"/>
                </a:lnTo>
                <a:lnTo>
                  <a:pt x="2121" y="1947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d22e"/>
                </a:solidFill>
                <a:latin typeface="Arial"/>
              </a:rPr>
              <a:t>I. Általános bemutatá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1700280"/>
            <a:ext cx="5113440" cy="863640"/>
          </a:xfrm>
          <a:custGeom>
            <a:avLst/>
            <a:gdLst>
              <a:gd name="textAreaLeft" fmla="*/ 104400 w 5113440"/>
              <a:gd name="textAreaRight" fmla="*/ 5009040 w 5113440"/>
              <a:gd name="textAreaTop" fmla="*/ 104400 h 863640"/>
              <a:gd name="textAreaBottom" fmla="*/ 759240 h 863640"/>
            </a:gdLst>
            <a:ahLst/>
            <a:rect l="textAreaLeft" t="textAreaTop" r="textAreaRight" b="textAreaBottom"/>
            <a:pathLst>
              <a:path w="127845" h="21600">
                <a:moveTo>
                  <a:pt x="0" y="0"/>
                </a:moveTo>
                <a:lnTo>
                  <a:pt x="127845" y="0"/>
                </a:lnTo>
                <a:lnTo>
                  <a:pt x="127845" y="21600"/>
                </a:lnTo>
                <a:lnTo>
                  <a:pt x="0" y="21600"/>
                </a:lnTo>
                <a:close/>
              </a:path>
              <a:path fill="lightenLess" w="127845" h="21600">
                <a:moveTo>
                  <a:pt x="0" y="0"/>
                </a:moveTo>
                <a:lnTo>
                  <a:pt x="127845" y="0"/>
                </a:lnTo>
                <a:lnTo>
                  <a:pt x="125226" y="2619"/>
                </a:lnTo>
                <a:lnTo>
                  <a:pt x="2619" y="2619"/>
                </a:lnTo>
                <a:close/>
              </a:path>
              <a:path fill="darken" w="127845" h="21600">
                <a:moveTo>
                  <a:pt x="127845" y="0"/>
                </a:moveTo>
                <a:lnTo>
                  <a:pt x="127845" y="21600"/>
                </a:lnTo>
                <a:lnTo>
                  <a:pt x="125226" y="18981"/>
                </a:lnTo>
                <a:lnTo>
                  <a:pt x="125226" y="2619"/>
                </a:lnTo>
                <a:close/>
              </a:path>
              <a:path fill="darkenLess" w="127845" h="21600">
                <a:moveTo>
                  <a:pt x="127845" y="21600"/>
                </a:moveTo>
                <a:lnTo>
                  <a:pt x="0" y="21600"/>
                </a:lnTo>
                <a:lnTo>
                  <a:pt x="2619" y="18981"/>
                </a:lnTo>
                <a:lnTo>
                  <a:pt x="125226" y="18981"/>
                </a:lnTo>
                <a:close/>
              </a:path>
              <a:path fill="lighten" w="127845" h="21600">
                <a:moveTo>
                  <a:pt x="0" y="21600"/>
                </a:moveTo>
                <a:lnTo>
                  <a:pt x="0" y="0"/>
                </a:lnTo>
                <a:lnTo>
                  <a:pt x="2619" y="2619"/>
                </a:lnTo>
                <a:lnTo>
                  <a:pt x="2619" y="1898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d22e"/>
                </a:solidFill>
                <a:latin typeface="Arial"/>
              </a:rPr>
              <a:t>II. Mauritius turizmus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19280" y="2997360"/>
            <a:ext cx="5472000" cy="934920"/>
          </a:xfrm>
          <a:custGeom>
            <a:avLst/>
            <a:gdLst>
              <a:gd name="textAreaLeft" fmla="*/ 108360 w 5472000"/>
              <a:gd name="textAreaRight" fmla="*/ 5363640 w 5472000"/>
              <a:gd name="textAreaTop" fmla="*/ 108360 h 934920"/>
              <a:gd name="textAreaBottom" fmla="*/ 826560 h 934920"/>
            </a:gdLst>
            <a:ahLst/>
            <a:rect l="textAreaLeft" t="textAreaTop" r="textAreaRight" b="textAreaBottom"/>
            <a:pathLst>
              <a:path w="126382" h="21600">
                <a:moveTo>
                  <a:pt x="0" y="0"/>
                </a:moveTo>
                <a:lnTo>
                  <a:pt x="126382" y="0"/>
                </a:lnTo>
                <a:lnTo>
                  <a:pt x="126382" y="21600"/>
                </a:lnTo>
                <a:lnTo>
                  <a:pt x="0" y="21600"/>
                </a:lnTo>
                <a:close/>
              </a:path>
              <a:path fill="lightenLess" w="126382" h="21600">
                <a:moveTo>
                  <a:pt x="0" y="0"/>
                </a:moveTo>
                <a:lnTo>
                  <a:pt x="126382" y="0"/>
                </a:lnTo>
                <a:lnTo>
                  <a:pt x="123874" y="2509"/>
                </a:lnTo>
                <a:lnTo>
                  <a:pt x="2509" y="2509"/>
                </a:lnTo>
                <a:close/>
              </a:path>
              <a:path fill="darken" w="126382" h="21600">
                <a:moveTo>
                  <a:pt x="126382" y="0"/>
                </a:moveTo>
                <a:lnTo>
                  <a:pt x="126382" y="21600"/>
                </a:lnTo>
                <a:lnTo>
                  <a:pt x="123874" y="19091"/>
                </a:lnTo>
                <a:lnTo>
                  <a:pt x="123874" y="2509"/>
                </a:lnTo>
                <a:close/>
              </a:path>
              <a:path fill="darkenLess" w="126382" h="21600">
                <a:moveTo>
                  <a:pt x="126382" y="21600"/>
                </a:moveTo>
                <a:lnTo>
                  <a:pt x="0" y="21600"/>
                </a:lnTo>
                <a:lnTo>
                  <a:pt x="2509" y="19091"/>
                </a:lnTo>
                <a:lnTo>
                  <a:pt x="123874" y="19091"/>
                </a:lnTo>
                <a:close/>
              </a:path>
              <a:path fill="lighten" w="126382" h="21600">
                <a:moveTo>
                  <a:pt x="0" y="21600"/>
                </a:moveTo>
                <a:lnTo>
                  <a:pt x="0" y="0"/>
                </a:lnTo>
                <a:lnTo>
                  <a:pt x="2509" y="2509"/>
                </a:lnTo>
                <a:lnTo>
                  <a:pt x="2509" y="1909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d22e"/>
                </a:solidFill>
                <a:latin typeface="Arial"/>
              </a:rPr>
              <a:t>III.Mauritius turizmusa a számok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d22e"/>
                </a:solidFill>
                <a:latin typeface="Arial"/>
              </a:rPr>
              <a:t>oldaláró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>
            <a:hlinkClick r:id="rId2" action="ppaction://hlinksldjump"/>
          </p:cNvPr>
          <p:cNvSpPr/>
          <p:nvPr/>
        </p:nvSpPr>
        <p:spPr>
          <a:xfrm>
            <a:off x="2484360" y="4437000"/>
            <a:ext cx="5472360" cy="935280"/>
          </a:xfrm>
          <a:custGeom>
            <a:avLst/>
            <a:gdLst>
              <a:gd name="textAreaLeft" fmla="*/ 108360 w 5472360"/>
              <a:gd name="textAreaRight" fmla="*/ 5364000 w 5472360"/>
              <a:gd name="textAreaTop" fmla="*/ 108360 h 935280"/>
              <a:gd name="textAreaBottom" fmla="*/ 826920 h 935280"/>
            </a:gdLst>
            <a:ahLst/>
            <a:rect l="textAreaLeft" t="textAreaTop" r="textAreaRight" b="textAreaBottom"/>
            <a:pathLst>
              <a:path w="126342" h="21600">
                <a:moveTo>
                  <a:pt x="0" y="0"/>
                </a:moveTo>
                <a:lnTo>
                  <a:pt x="126342" y="0"/>
                </a:lnTo>
                <a:lnTo>
                  <a:pt x="126342" y="21600"/>
                </a:lnTo>
                <a:lnTo>
                  <a:pt x="0" y="21600"/>
                </a:lnTo>
                <a:close/>
              </a:path>
              <a:path fill="lightenLess" w="126342" h="21600">
                <a:moveTo>
                  <a:pt x="0" y="0"/>
                </a:moveTo>
                <a:lnTo>
                  <a:pt x="126342" y="0"/>
                </a:lnTo>
                <a:lnTo>
                  <a:pt x="123833" y="2509"/>
                </a:lnTo>
                <a:lnTo>
                  <a:pt x="2509" y="2509"/>
                </a:lnTo>
                <a:close/>
              </a:path>
              <a:path fill="darken" w="126342" h="21600">
                <a:moveTo>
                  <a:pt x="126342" y="0"/>
                </a:moveTo>
                <a:lnTo>
                  <a:pt x="126342" y="21600"/>
                </a:lnTo>
                <a:lnTo>
                  <a:pt x="123833" y="19091"/>
                </a:lnTo>
                <a:lnTo>
                  <a:pt x="123833" y="2509"/>
                </a:lnTo>
                <a:close/>
              </a:path>
              <a:path fill="darkenLess" w="126342" h="21600">
                <a:moveTo>
                  <a:pt x="126342" y="21600"/>
                </a:moveTo>
                <a:lnTo>
                  <a:pt x="0" y="21600"/>
                </a:lnTo>
                <a:lnTo>
                  <a:pt x="2509" y="19091"/>
                </a:lnTo>
                <a:lnTo>
                  <a:pt x="123833" y="19091"/>
                </a:lnTo>
                <a:close/>
              </a:path>
              <a:path fill="lighten" w="126342" h="21600">
                <a:moveTo>
                  <a:pt x="0" y="21600"/>
                </a:moveTo>
                <a:lnTo>
                  <a:pt x="0" y="0"/>
                </a:lnTo>
                <a:lnTo>
                  <a:pt x="2509" y="2509"/>
                </a:lnTo>
                <a:lnTo>
                  <a:pt x="2509" y="1909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d22e"/>
                </a:solidFill>
                <a:latin typeface="Arial"/>
              </a:rPr>
              <a:t>IV. Magyarország és Mauritius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d22e"/>
                </a:solidFill>
                <a:latin typeface="Arial"/>
              </a:rPr>
              <a:t>kapcsolat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50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220500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 </a:t>
            </a:r>
            <a:r>
              <a:rPr b="0" lang="hu-HU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A mauritiusi konyha 3 kontinens ízeit kínálja</a:t>
            </a:r>
            <a:r>
              <a:rPr b="0" lang="hu-HU" sz="1800" spc="-1" strike="noStrike">
                <a:solidFill>
                  <a:srgbClr val="99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ffcc"/>
                </a:solidFill>
                <a:latin typeface="Arial"/>
              </a:rPr>
              <a:t>- </a:t>
            </a:r>
            <a:r>
              <a:rPr b="0" lang="hu-HU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Az indiai és creol curry-s ételek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ffcc"/>
                </a:solidFill>
                <a:latin typeface="Arial"/>
              </a:rPr>
              <a:t>- </a:t>
            </a:r>
            <a:r>
              <a:rPr b="0" lang="hu-HU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a francia pfeffer steak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ffcc"/>
                </a:solidFill>
                <a:latin typeface="Arial"/>
              </a:rPr>
              <a:t>- </a:t>
            </a:r>
            <a:r>
              <a:rPr b="0" lang="hu-HU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az angolbélszín és a kínai édes-savanyú ízek egyaránt jelen vannak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ffcc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A tengeri sün, a kék és fekete füstölt marlin, a homár, az osztriga és garnélarák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 </a:t>
            </a:r>
            <a:r>
              <a:rPr b="0" lang="hu-HU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Helyi italok</a:t>
            </a:r>
            <a:r>
              <a:rPr b="0" lang="hu-HU" sz="1800" spc="-1" strike="noStrike">
                <a:solidFill>
                  <a:srgbClr val="99ffcc"/>
                </a:solidFill>
                <a:latin typeface="Arial"/>
              </a:rPr>
              <a:t>: </a:t>
            </a:r>
            <a:r>
              <a:rPr b="0" lang="hu-HU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a fehér rum és a kókusztej.</a:t>
            </a:r>
            <a:r>
              <a:rPr b="0" lang="hu-HU" sz="1800" spc="-1" strike="noStrike">
                <a:solidFill>
                  <a:srgbClr val="99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2" name="">
            <a:hlinkClick r:id="rId1" action="ppaction://hlinksldjump"/>
          </p:cNvPr>
          <p:cNvSpPr/>
          <p:nvPr/>
        </p:nvSpPr>
        <p:spPr>
          <a:xfrm>
            <a:off x="6172200" y="5791320"/>
            <a:ext cx="2666880" cy="533160"/>
          </a:xfrm>
          <a:custGeom>
            <a:avLst/>
            <a:gdLst>
              <a:gd name="textAreaLeft" fmla="*/ 98280 w 2666880"/>
              <a:gd name="textAreaRight" fmla="*/ 2568600 w 2666880"/>
              <a:gd name="textAreaTop" fmla="*/ 98280 h 533160"/>
              <a:gd name="textAreaBottom" fmla="*/ 434880 h 533160"/>
            </a:gdLst>
            <a:ahLst/>
            <a:rect l="textAreaLeft" t="textAreaTop" r="textAreaRight" b="textAreaBottom"/>
            <a:pathLst>
              <a:path w="107985" h="21600">
                <a:moveTo>
                  <a:pt x="0" y="0"/>
                </a:moveTo>
                <a:lnTo>
                  <a:pt x="107985" y="0"/>
                </a:lnTo>
                <a:lnTo>
                  <a:pt x="107985" y="21600"/>
                </a:lnTo>
                <a:lnTo>
                  <a:pt x="0" y="21600"/>
                </a:lnTo>
                <a:close/>
              </a:path>
              <a:path fill="lightenLess" w="107985" h="21600">
                <a:moveTo>
                  <a:pt x="0" y="0"/>
                </a:moveTo>
                <a:lnTo>
                  <a:pt x="107985" y="0"/>
                </a:lnTo>
                <a:lnTo>
                  <a:pt x="104000" y="3986"/>
                </a:lnTo>
                <a:lnTo>
                  <a:pt x="3986" y="3986"/>
                </a:lnTo>
                <a:close/>
              </a:path>
              <a:path fill="darken" w="107985" h="21600">
                <a:moveTo>
                  <a:pt x="107985" y="0"/>
                </a:moveTo>
                <a:lnTo>
                  <a:pt x="107985" y="21600"/>
                </a:lnTo>
                <a:lnTo>
                  <a:pt x="104000" y="17614"/>
                </a:lnTo>
                <a:lnTo>
                  <a:pt x="104000" y="3986"/>
                </a:lnTo>
                <a:close/>
              </a:path>
              <a:path fill="darkenLess" w="107985" h="21600">
                <a:moveTo>
                  <a:pt x="107985" y="21600"/>
                </a:moveTo>
                <a:lnTo>
                  <a:pt x="0" y="21600"/>
                </a:lnTo>
                <a:lnTo>
                  <a:pt x="3986" y="17614"/>
                </a:lnTo>
                <a:lnTo>
                  <a:pt x="104000" y="17614"/>
                </a:lnTo>
                <a:close/>
              </a:path>
              <a:path fill="lighten" w="107985" h="21600">
                <a:moveTo>
                  <a:pt x="0" y="21600"/>
                </a:moveTo>
                <a:lnTo>
                  <a:pt x="0" y="0"/>
                </a:lnTo>
                <a:lnTo>
                  <a:pt x="3986" y="3986"/>
                </a:lnTo>
                <a:lnTo>
                  <a:pt x="3986" y="1761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Vissz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9640" y="981000"/>
            <a:ext cx="51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ff99"/>
                </a:solidFill>
                <a:uFillTx/>
                <a:latin typeface="Arial"/>
              </a:rPr>
              <a:t>Gasztronómi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189000"/>
            <a:ext cx="8763120" cy="60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ccff99"/>
                </a:solidFill>
                <a:uFillTx/>
                <a:latin typeface="Arial"/>
                <a:ea typeface="Times New Roman"/>
              </a:rPr>
              <a:t>Telefon</a:t>
            </a:r>
            <a:br>
              <a:rPr sz="2800"/>
            </a:br>
            <a:r>
              <a:rPr b="0" lang="hu-HU" sz="1400" spc="-1" strike="noStrike">
                <a:solidFill>
                  <a:srgbClr val="99ffcc"/>
                </a:solidFill>
                <a:latin typeface="Arial"/>
                <a:ea typeface="Times New Roman"/>
              </a:rPr>
              <a:t>Két mobilszolgáltató</a:t>
            </a:r>
            <a:r>
              <a:rPr b="0" lang="hu-HU" sz="14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99ffcc"/>
                </a:solidFill>
                <a:latin typeface="Arial"/>
                <a:ea typeface="Times New Roman"/>
              </a:rPr>
              <a:t>(Cell és M-Tel) </a:t>
            </a:r>
            <a:r>
              <a:rPr b="0" lang="hu-HU" sz="1400" spc="-1" strike="noStrike">
                <a:solidFill>
                  <a:srgbClr val="99ffcc"/>
                </a:solidFill>
                <a:latin typeface="Arial"/>
              </a:rPr>
              <a:t>– magyar roaming szerződés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ccff99"/>
                </a:solidFill>
                <a:uFillTx/>
                <a:latin typeface="Arial"/>
                <a:ea typeface="Times New Roman"/>
              </a:rPr>
              <a:t>Közbiztonság</a:t>
            </a:r>
            <a:br>
              <a:rPr sz="2800"/>
            </a:br>
            <a:r>
              <a:rPr b="0" lang="hu-HU" sz="1400" spc="-1" strike="noStrike">
                <a:solidFill>
                  <a:srgbClr val="99ffcc"/>
                </a:solidFill>
                <a:latin typeface="Verdana"/>
              </a:rPr>
              <a:t>Nagyon jó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ccff99"/>
                </a:solidFill>
                <a:uFillTx/>
                <a:latin typeface="Arial"/>
                <a:ea typeface="Times New Roman"/>
              </a:rPr>
              <a:t>Beutazási feltételek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99ffcc"/>
                </a:solidFill>
                <a:latin typeface="Arial"/>
                <a:ea typeface="Times New Roman"/>
              </a:rPr>
              <a:t>A 14 nap</a:t>
            </a:r>
            <a:r>
              <a:rPr b="0" lang="hu-HU" sz="1400" spc="-1" strike="noStrike">
                <a:solidFill>
                  <a:srgbClr val="99ffcc"/>
                </a:solidFill>
                <a:latin typeface="Arial"/>
              </a:rPr>
              <a:t> után</a:t>
            </a:r>
            <a:r>
              <a:rPr b="0" lang="hu-HU" sz="1400" spc="-1" strike="noStrike">
                <a:solidFill>
                  <a:srgbClr val="99ffcc"/>
                </a:solidFill>
                <a:latin typeface="Arial"/>
                <a:ea typeface="Times New Roman"/>
              </a:rPr>
              <a:t> vízum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99ffcc"/>
                </a:solidFill>
                <a:latin typeface="Arial"/>
              </a:rPr>
              <a:t>Ú</a:t>
            </a:r>
            <a:r>
              <a:rPr b="0" lang="hu-HU" sz="1400" spc="-1" strike="noStrike">
                <a:solidFill>
                  <a:srgbClr val="99ffcc"/>
                </a:solidFill>
                <a:latin typeface="Arial"/>
                <a:ea typeface="Times New Roman"/>
              </a:rPr>
              <a:t>tle</a:t>
            </a:r>
            <a:r>
              <a:rPr b="0" lang="hu-HU" sz="1400" spc="-1" strike="noStrike">
                <a:solidFill>
                  <a:srgbClr val="99ffcc"/>
                </a:solidFill>
                <a:latin typeface="Arial"/>
              </a:rPr>
              <a:t>v</a:t>
            </a:r>
            <a:r>
              <a:rPr b="0" lang="hu-HU" sz="1400" spc="-1" strike="noStrike">
                <a:solidFill>
                  <a:srgbClr val="99ffcc"/>
                </a:solidFill>
                <a:latin typeface="Arial"/>
                <a:ea typeface="Times New Roman"/>
              </a:rPr>
              <a:t>élnek még 3 hónap érvény</a:t>
            </a:r>
            <a:r>
              <a:rPr b="0" lang="hu-HU" sz="1400" spc="-1" strike="noStrike">
                <a:solidFill>
                  <a:srgbClr val="99ffcc"/>
                </a:solidFill>
                <a:latin typeface="Arial"/>
              </a:rPr>
              <a:t>esnek</a:t>
            </a:r>
            <a:r>
              <a:rPr b="0" lang="hu-HU" sz="1400" spc="-1" strike="noStrike">
                <a:solidFill>
                  <a:srgbClr val="99ffcc"/>
                </a:solidFill>
                <a:latin typeface="Arial"/>
                <a:ea typeface="Times New Roman"/>
              </a:rPr>
              <a:t> </a:t>
            </a:r>
            <a:r>
              <a:rPr b="0" lang="hu-HU" sz="1400" spc="-1" strike="noStrike">
                <a:solidFill>
                  <a:srgbClr val="99ffcc"/>
                </a:solidFill>
                <a:latin typeface="Arial"/>
              </a:rPr>
              <a:t>kell lennie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99ffcc"/>
                </a:solidFill>
                <a:latin typeface="Arial"/>
                <a:ea typeface="Times New Roman"/>
              </a:rPr>
              <a:t> </a:t>
            </a:r>
            <a:r>
              <a:rPr b="0" lang="hu-HU" sz="1400" spc="-1" strike="noStrike">
                <a:solidFill>
                  <a:srgbClr val="99ffcc"/>
                </a:solidFill>
                <a:latin typeface="Arial"/>
                <a:ea typeface="Times New Roman"/>
              </a:rPr>
              <a:t>Az ország elhagyásakor kb.10 USD illetéket kell fizetni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ccff99"/>
                </a:solidFill>
                <a:uFillTx/>
                <a:latin typeface="Arial"/>
                <a:ea typeface="Times New Roman"/>
              </a:rPr>
              <a:t>Közlekedés az országon belül</a:t>
            </a:r>
            <a:br>
              <a:rPr sz="2800"/>
            </a:br>
            <a:r>
              <a:rPr b="0" lang="hu-HU" sz="1400" spc="-1" strike="noStrike">
                <a:solidFill>
                  <a:srgbClr val="99ffcc"/>
                </a:solidFill>
                <a:latin typeface="Arial"/>
                <a:ea typeface="Times New Roman"/>
              </a:rPr>
              <a:t>Úthálózat: 1970 km. Jó minőségű.</a:t>
            </a:r>
            <a:br>
              <a:rPr sz="1400"/>
            </a:br>
            <a:r>
              <a:rPr b="0" lang="hu-HU" sz="1400" spc="-1" strike="noStrike">
                <a:solidFill>
                  <a:srgbClr val="99ffcc"/>
                </a:solidFill>
                <a:latin typeface="Arial"/>
                <a:ea typeface="Times New Roman"/>
              </a:rPr>
              <a:t>Vasúthálózat nincs!</a:t>
            </a:r>
            <a:br>
              <a:rPr sz="1400"/>
            </a:br>
            <a:r>
              <a:rPr b="0" lang="hu-HU" sz="1400" spc="-1" strike="noStrike">
                <a:solidFill>
                  <a:srgbClr val="99ffcc"/>
                </a:solidFill>
                <a:latin typeface="Arial"/>
                <a:ea typeface="Times New Roman"/>
              </a:rPr>
              <a:t>Belföldi repülőjáratok: nem jellemző a főszigeten, a kisebb szigetekre lehet repülni.</a:t>
            </a:r>
            <a:br>
              <a:rPr sz="1400"/>
            </a:br>
            <a:r>
              <a:rPr b="0" lang="hu-HU" sz="1400" spc="-1" strike="noStrike">
                <a:solidFill>
                  <a:srgbClr val="99ffcc"/>
                </a:solidFill>
                <a:latin typeface="Arial"/>
                <a:ea typeface="Times New Roman"/>
              </a:rPr>
              <a:t>Belföldi víziközlekedés: a partok mentén vannak hajójáratok</a:t>
            </a:r>
            <a:br>
              <a:rPr sz="1400"/>
            </a:br>
            <a:r>
              <a:rPr b="0" lang="hu-HU" sz="1400" spc="-1" strike="noStrike">
                <a:solidFill>
                  <a:srgbClr val="99ffcc"/>
                </a:solidFill>
                <a:latin typeface="Arial"/>
                <a:ea typeface="Times New Roman"/>
              </a:rPr>
              <a:t>Taxi: nem olcsó, de praktikus.</a:t>
            </a:r>
            <a:br>
              <a:rPr sz="1400"/>
            </a:br>
            <a:r>
              <a:rPr b="0" lang="hu-HU" sz="1400" spc="-1" strike="noStrike">
                <a:solidFill>
                  <a:srgbClr val="99ffcc"/>
                </a:solidFill>
                <a:latin typeface="Arial"/>
                <a:ea typeface="Times New Roman"/>
              </a:rPr>
              <a:t>Távolsági busz: van, de nem sűrű a járat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ccff99"/>
                </a:solidFill>
                <a:uFillTx/>
                <a:latin typeface="Arial"/>
                <a:ea typeface="Times New Roman"/>
              </a:rPr>
              <a:t>Magyarország helyi képviselete</a:t>
            </a:r>
            <a:br>
              <a:rPr sz="1400"/>
            </a:br>
            <a:r>
              <a:rPr b="0" lang="hu-HU" sz="1400" spc="-1" strike="noStrike">
                <a:solidFill>
                  <a:srgbClr val="99ffcc"/>
                </a:solidFill>
                <a:latin typeface="Arial"/>
                <a:ea typeface="Times New Roman"/>
              </a:rPr>
              <a:t> Dél –Afrikai Köztársaságban van legközelebb követségünk, vagy Kenyában.</a:t>
            </a:r>
            <a:br>
              <a:rPr sz="1400"/>
            </a:br>
            <a:r>
              <a:rPr b="0" lang="hu-HU" sz="1400" spc="-1" strike="noStrike">
                <a:solidFill>
                  <a:srgbClr val="99ffcc"/>
                </a:solidFill>
                <a:latin typeface="Arial"/>
                <a:ea typeface="Times New Roman"/>
              </a:rPr>
              <a:t>Nagykövetsége </a:t>
            </a:r>
            <a:r>
              <a:rPr b="0" lang="hu-HU" sz="1400" spc="-1" strike="noStrike">
                <a:solidFill>
                  <a:srgbClr val="99ffcc"/>
                </a:solidFill>
                <a:latin typeface="Arial"/>
              </a:rPr>
              <a:t>és konzulátus s</a:t>
            </a:r>
            <a:r>
              <a:rPr b="0" lang="hu-HU" sz="1400" spc="-1" strike="noStrike">
                <a:solidFill>
                  <a:srgbClr val="99ffcc"/>
                </a:solidFill>
                <a:latin typeface="Arial"/>
                <a:ea typeface="Times New Roman"/>
              </a:rPr>
              <a:t>incs.</a:t>
            </a:r>
            <a:br>
              <a:rPr sz="1400"/>
            </a:br>
            <a:r>
              <a:rPr b="0" lang="hu-HU" sz="1400" spc="-1" strike="noStrike">
                <a:solidFill>
                  <a:srgbClr val="99ffcc"/>
                </a:solidFill>
                <a:latin typeface="Arial"/>
                <a:ea typeface="Times New Roman"/>
              </a:rPr>
              <a:t>Az angol követségen tudnak segítséget nyújtani a Mauritiusi ügyekben</a:t>
            </a:r>
            <a:r>
              <a:rPr b="0" lang="hu-HU" sz="1400" spc="-1" strike="noStrike">
                <a:solidFill>
                  <a:srgbClr val="99ffcc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ccff99"/>
                </a:solidFill>
                <a:uFillTx/>
                <a:latin typeface="Arial"/>
                <a:ea typeface="Times New Roman"/>
              </a:rPr>
              <a:t>A Magyar Külügyminisztérium tanácsai</a:t>
            </a:r>
            <a:br>
              <a:rPr sz="2800"/>
            </a:br>
            <a:r>
              <a:rPr b="0" lang="hu-HU" sz="1400" spc="-1" strike="noStrike">
                <a:solidFill>
                  <a:srgbClr val="99ffcc"/>
                </a:solidFill>
                <a:latin typeface="Arial"/>
                <a:ea typeface="Times New Roman"/>
              </a:rPr>
              <a:t>Nem szerepel a veszélyes országok listáján. Különösebb intelem nem indokolt</a:t>
            </a:r>
            <a:r>
              <a:rPr b="0" lang="hu-HU" sz="1400" spc="-1" strike="noStrike">
                <a:solidFill>
                  <a:srgbClr val="99ffcc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6477120" y="6324480"/>
            <a:ext cx="2666880" cy="533520"/>
          </a:xfrm>
          <a:custGeom>
            <a:avLst/>
            <a:gdLst>
              <a:gd name="textAreaLeft" fmla="*/ 98280 w 2666880"/>
              <a:gd name="textAreaRight" fmla="*/ 2568600 w 2666880"/>
              <a:gd name="textAreaTop" fmla="*/ 98280 h 533520"/>
              <a:gd name="textAreaBottom" fmla="*/ 435240 h 533520"/>
            </a:gdLst>
            <a:ahLst/>
            <a:rect l="textAreaLeft" t="textAreaTop" r="textAreaRight" b="textAreaBottom"/>
            <a:pathLst>
              <a:path w="107913" h="21600">
                <a:moveTo>
                  <a:pt x="0" y="0"/>
                </a:moveTo>
                <a:lnTo>
                  <a:pt x="107913" y="0"/>
                </a:lnTo>
                <a:lnTo>
                  <a:pt x="107913" y="21600"/>
                </a:lnTo>
                <a:lnTo>
                  <a:pt x="0" y="21600"/>
                </a:lnTo>
                <a:close/>
              </a:path>
              <a:path fill="lightenLess" w="107913" h="21600">
                <a:moveTo>
                  <a:pt x="0" y="0"/>
                </a:moveTo>
                <a:lnTo>
                  <a:pt x="107913" y="0"/>
                </a:lnTo>
                <a:lnTo>
                  <a:pt x="103927" y="3986"/>
                </a:lnTo>
                <a:lnTo>
                  <a:pt x="3986" y="3986"/>
                </a:lnTo>
                <a:close/>
              </a:path>
              <a:path fill="darken" w="107913" h="21600">
                <a:moveTo>
                  <a:pt x="107913" y="0"/>
                </a:moveTo>
                <a:lnTo>
                  <a:pt x="107913" y="21600"/>
                </a:lnTo>
                <a:lnTo>
                  <a:pt x="103927" y="17614"/>
                </a:lnTo>
                <a:lnTo>
                  <a:pt x="103927" y="3986"/>
                </a:lnTo>
                <a:close/>
              </a:path>
              <a:path fill="darkenLess" w="107913" h="21600">
                <a:moveTo>
                  <a:pt x="107913" y="21600"/>
                </a:moveTo>
                <a:lnTo>
                  <a:pt x="0" y="21600"/>
                </a:lnTo>
                <a:lnTo>
                  <a:pt x="3986" y="17614"/>
                </a:lnTo>
                <a:lnTo>
                  <a:pt x="103927" y="17614"/>
                </a:lnTo>
                <a:close/>
              </a:path>
              <a:path fill="lighten" w="107913" h="21600">
                <a:moveTo>
                  <a:pt x="0" y="21600"/>
                </a:moveTo>
                <a:lnTo>
                  <a:pt x="0" y="0"/>
                </a:lnTo>
                <a:lnTo>
                  <a:pt x="3986" y="3986"/>
                </a:lnTo>
                <a:lnTo>
                  <a:pt x="3986" y="1761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Vissz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324000" y="1052640"/>
          <a:ext cx="7386120" cy="4496760"/>
        </p:xfrm>
        <a:graphic>
          <a:graphicData uri="http://schemas.openxmlformats.org/drawingml/2006/table">
            <a:tbl>
              <a:tblPr/>
              <a:tblGrid>
                <a:gridCol w="759240"/>
                <a:gridCol w="1129680"/>
                <a:gridCol w="1114560"/>
                <a:gridCol w="2026800"/>
                <a:gridCol w="2355840"/>
              </a:tblGrid>
              <a:tr h="46332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f1311"/>
                          </a:solidFill>
                          <a:latin typeface="Bazooka"/>
                          <a:ea typeface="Times New Roman"/>
                        </a:rPr>
                        <a:t>SELECTED TOURISM STATISTICS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Year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Number 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Tourism             Receipts                    (Rs. Mn)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Hotels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Rooms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Tourist arrivals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1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1997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87          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6 809        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536 125      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10 068       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1998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90          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7 267        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558 195      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11 890       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92          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8 255        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578 085      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13 668       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95          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8 657        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656 453      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14 234       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2001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95          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9 024        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660 318      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18 166       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95          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9 623        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681 648      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18 328       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97          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9 647        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702 018      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19,415 </a:t>
                      </a:r>
                      <a:r>
                        <a:rPr b="0" lang="en-US" sz="1000" spc="-1" strike="noStrike" baseline="30000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103 </a:t>
                      </a:r>
                      <a:r>
                        <a:rPr b="0" lang="en-US" sz="1000" spc="-1" strike="noStrike" baseline="30000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10 640        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718 861      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23 448       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">
            <a:hlinkClick r:id="rId1" action="ppaction://hlinksldjump"/>
          </p:cNvPr>
          <p:cNvSpPr/>
          <p:nvPr/>
        </p:nvSpPr>
        <p:spPr>
          <a:xfrm>
            <a:off x="6878520" y="5780160"/>
            <a:ext cx="1598760" cy="554040"/>
          </a:xfrm>
          <a:custGeom>
            <a:avLst/>
            <a:gdLst>
              <a:gd name="textAreaLeft" fmla="*/ 92880 w 1598760"/>
              <a:gd name="textAreaRight" fmla="*/ 1505880 w 1598760"/>
              <a:gd name="textAreaTop" fmla="*/ 92880 h 554040"/>
              <a:gd name="textAreaBottom" fmla="*/ 461160 h 554040"/>
            </a:gdLst>
            <a:ahLst/>
            <a:rect l="textAreaLeft" t="textAreaTop" r="textAreaRight" b="textAreaBottom"/>
            <a:pathLst>
              <a:path w="62303" h="21600">
                <a:moveTo>
                  <a:pt x="0" y="0"/>
                </a:moveTo>
                <a:lnTo>
                  <a:pt x="62303" y="0"/>
                </a:lnTo>
                <a:lnTo>
                  <a:pt x="62303" y="21600"/>
                </a:lnTo>
                <a:lnTo>
                  <a:pt x="0" y="21600"/>
                </a:lnTo>
                <a:close/>
              </a:path>
              <a:path fill="lightenLess" w="62303" h="21600">
                <a:moveTo>
                  <a:pt x="0" y="0"/>
                </a:moveTo>
                <a:lnTo>
                  <a:pt x="62303" y="0"/>
                </a:lnTo>
                <a:lnTo>
                  <a:pt x="58676" y="3628"/>
                </a:lnTo>
                <a:lnTo>
                  <a:pt x="3628" y="3628"/>
                </a:lnTo>
                <a:close/>
              </a:path>
              <a:path fill="darken" w="62303" h="21600">
                <a:moveTo>
                  <a:pt x="62303" y="0"/>
                </a:moveTo>
                <a:lnTo>
                  <a:pt x="62303" y="21600"/>
                </a:lnTo>
                <a:lnTo>
                  <a:pt x="58676" y="17972"/>
                </a:lnTo>
                <a:lnTo>
                  <a:pt x="58676" y="3628"/>
                </a:lnTo>
                <a:close/>
              </a:path>
              <a:path fill="darkenLess" w="62303" h="21600">
                <a:moveTo>
                  <a:pt x="62303" y="21600"/>
                </a:moveTo>
                <a:lnTo>
                  <a:pt x="0" y="21600"/>
                </a:lnTo>
                <a:lnTo>
                  <a:pt x="3628" y="17972"/>
                </a:lnTo>
                <a:lnTo>
                  <a:pt x="58676" y="17972"/>
                </a:lnTo>
                <a:close/>
              </a:path>
              <a:path fill="lighten" w="62303" h="21600">
                <a:moveTo>
                  <a:pt x="0" y="21600"/>
                </a:moveTo>
                <a:lnTo>
                  <a:pt x="0" y="0"/>
                </a:lnTo>
                <a:lnTo>
                  <a:pt x="3628" y="3628"/>
                </a:lnTo>
                <a:lnTo>
                  <a:pt x="3628" y="1797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Vissz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ff99"/>
                </a:solidFill>
                <a:uFillTx/>
                <a:latin typeface="Arial"/>
              </a:rPr>
              <a:t>A foglalkoztatottság a turizmus szektoron belüli megoszlása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63520" y="1598760"/>
          <a:ext cx="7386480" cy="4484520"/>
        </p:xfrm>
        <a:graphic>
          <a:graphicData uri="http://schemas.openxmlformats.org/drawingml/2006/table">
            <a:tbl>
              <a:tblPr/>
              <a:tblGrid>
                <a:gridCol w="3890880"/>
                <a:gridCol w="695520"/>
                <a:gridCol w="695160"/>
                <a:gridCol w="682560"/>
                <a:gridCol w="708120"/>
                <a:gridCol w="714240"/>
              </a:tblGrid>
              <a:tr h="75060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99ffcc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hu-HU" sz="1800" spc="-1" strike="noStrike">
                          <a:solidFill>
                            <a:srgbClr val="99ffcc"/>
                          </a:solidFill>
                          <a:latin typeface="Times New Roman"/>
                          <a:ea typeface="Times New Roman"/>
                        </a:rPr>
                        <a:t>Table 9 :- Employment  in the tourist industry as at end of March, 2001 – 2005 Year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5 </a:t>
                      </a:r>
                      <a:r>
                        <a:rPr b="1" lang="en-US" sz="12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hu-H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Establishment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0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hu-HU" sz="16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Restaurants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 269      </a:t>
                      </a:r>
                      <a:endParaRPr b="0" lang="en-US" sz="11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 252      </a:t>
                      </a:r>
                      <a:endParaRPr b="0" lang="en-US" sz="11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 719      </a:t>
                      </a:r>
                      <a:endParaRPr b="0" lang="en-US" sz="11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 623      </a:t>
                      </a:r>
                      <a:endParaRPr b="0" lang="en-US" sz="11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 809      </a:t>
                      </a:r>
                      <a:endParaRPr b="0" lang="en-US" sz="11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hu-H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Hotels 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4 601      </a:t>
                      </a:r>
                      <a:endParaRPr b="0" lang="en-US" sz="11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5 503      </a:t>
                      </a:r>
                      <a:endParaRPr b="0" lang="en-US" sz="11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6 096      </a:t>
                      </a:r>
                      <a:endParaRPr b="0" lang="en-US" sz="11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6 853      </a:t>
                      </a:r>
                      <a:endParaRPr b="0" lang="en-US" sz="11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9 226      </a:t>
                      </a:r>
                      <a:endParaRPr b="0" lang="en-US" sz="11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hu-H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Travel and Tourism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 652      </a:t>
                      </a:r>
                      <a:endParaRPr b="0" lang="en-US" sz="11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 974      </a:t>
                      </a:r>
                      <a:endParaRPr b="0" lang="en-US" sz="11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 045      </a:t>
                      </a:r>
                      <a:endParaRPr b="0" lang="en-US" sz="11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 137      </a:t>
                      </a:r>
                      <a:endParaRPr b="0" lang="en-US" sz="11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 342      </a:t>
                      </a:r>
                      <a:endParaRPr b="0" lang="en-US" sz="11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1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hu-H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Total 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9 522      </a:t>
                      </a:r>
                      <a:endParaRPr b="0" lang="en-US" sz="11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 729      </a:t>
                      </a:r>
                      <a:endParaRPr b="0" lang="en-US" sz="11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1 860      </a:t>
                      </a:r>
                      <a:endParaRPr b="0" lang="en-US" sz="11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2 613      </a:t>
                      </a:r>
                      <a:endParaRPr b="0" lang="en-US" sz="11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5 377      </a:t>
                      </a:r>
                      <a:endParaRPr b="0" lang="en-US" sz="11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6877080" y="6141960"/>
            <a:ext cx="1598760" cy="554040"/>
          </a:xfrm>
          <a:custGeom>
            <a:avLst/>
            <a:gdLst>
              <a:gd name="textAreaLeft" fmla="*/ 92880 w 1598760"/>
              <a:gd name="textAreaRight" fmla="*/ 1505880 w 1598760"/>
              <a:gd name="textAreaTop" fmla="*/ 92880 h 554040"/>
              <a:gd name="textAreaBottom" fmla="*/ 461160 h 554040"/>
            </a:gdLst>
            <a:ahLst/>
            <a:rect l="textAreaLeft" t="textAreaTop" r="textAreaRight" b="textAreaBottom"/>
            <a:pathLst>
              <a:path w="62303" h="21600">
                <a:moveTo>
                  <a:pt x="0" y="0"/>
                </a:moveTo>
                <a:lnTo>
                  <a:pt x="62303" y="0"/>
                </a:lnTo>
                <a:lnTo>
                  <a:pt x="62303" y="21600"/>
                </a:lnTo>
                <a:lnTo>
                  <a:pt x="0" y="21600"/>
                </a:lnTo>
                <a:close/>
              </a:path>
              <a:path fill="lightenLess" w="62303" h="21600">
                <a:moveTo>
                  <a:pt x="0" y="0"/>
                </a:moveTo>
                <a:lnTo>
                  <a:pt x="62303" y="0"/>
                </a:lnTo>
                <a:lnTo>
                  <a:pt x="58676" y="3628"/>
                </a:lnTo>
                <a:lnTo>
                  <a:pt x="3628" y="3628"/>
                </a:lnTo>
                <a:close/>
              </a:path>
              <a:path fill="darken" w="62303" h="21600">
                <a:moveTo>
                  <a:pt x="62303" y="0"/>
                </a:moveTo>
                <a:lnTo>
                  <a:pt x="62303" y="21600"/>
                </a:lnTo>
                <a:lnTo>
                  <a:pt x="58676" y="17972"/>
                </a:lnTo>
                <a:lnTo>
                  <a:pt x="58676" y="3628"/>
                </a:lnTo>
                <a:close/>
              </a:path>
              <a:path fill="darkenLess" w="62303" h="21600">
                <a:moveTo>
                  <a:pt x="62303" y="21600"/>
                </a:moveTo>
                <a:lnTo>
                  <a:pt x="0" y="21600"/>
                </a:lnTo>
                <a:lnTo>
                  <a:pt x="3628" y="17972"/>
                </a:lnTo>
                <a:lnTo>
                  <a:pt x="58676" y="17972"/>
                </a:lnTo>
                <a:close/>
              </a:path>
              <a:path fill="lighten" w="62303" h="21600">
                <a:moveTo>
                  <a:pt x="0" y="21600"/>
                </a:moveTo>
                <a:lnTo>
                  <a:pt x="0" y="0"/>
                </a:lnTo>
                <a:lnTo>
                  <a:pt x="3628" y="3628"/>
                </a:lnTo>
                <a:lnTo>
                  <a:pt x="3628" y="1797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Vissz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033640" y="-1289160"/>
            <a:ext cx="2174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drawingml/2006/table">
            <a:tbl>
              <a:tblPr/>
              <a:tblGrid>
                <a:gridCol w="3983040"/>
                <a:gridCol w="1030320"/>
                <a:gridCol w="1030320"/>
                <a:gridCol w="1039680"/>
                <a:gridCol w="1028880"/>
                <a:gridCol w="1031760"/>
              </a:tblGrid>
              <a:tr h="63792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 u="sng">
                          <a:solidFill>
                            <a:srgbClr val="ccff66"/>
                          </a:solidFill>
                          <a:uFillTx/>
                          <a:latin typeface="Arial"/>
                          <a:ea typeface="Arial"/>
                        </a:rPr>
                        <a:t>Arrival</a:t>
                      </a:r>
                      <a:r>
                        <a:rPr b="1" lang="hu-HU" sz="2000" spc="-1" strike="noStrike" u="sng">
                          <a:solidFill>
                            <a:srgbClr val="ccff66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hu-HU" sz="2000" spc="-1" strike="noStrike" u="sng">
                          <a:solidFill>
                            <a:srgbClr val="ccff66"/>
                          </a:solidFill>
                          <a:uFillTx/>
                          <a:latin typeface="Arial"/>
                          <a:ea typeface="Arial"/>
                        </a:rPr>
                        <a:t>at</a:t>
                      </a:r>
                      <a:r>
                        <a:rPr b="1" lang="hu-HU" sz="2000" spc="-1" strike="noStrike" u="sng">
                          <a:solidFill>
                            <a:srgbClr val="ccff66"/>
                          </a:solidFill>
                          <a:uFillTx/>
                          <a:latin typeface="Arial"/>
                          <a:ea typeface="Times New Roman"/>
                        </a:rPr>
                        <a:t> Mauritian Residents by country of disembarkation, 2000 - 2004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Country of disembarkation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2001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 </a:t>
                      </a:r>
                      <a:r>
                        <a:rPr b="0" lang="hu-HU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Australia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4 696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4 525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4 705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5 250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6 760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Belgium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1 923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613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561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1 103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205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 </a:t>
                      </a:r>
                      <a:r>
                        <a:rPr b="0" lang="hu-HU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Canada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111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64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73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47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73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 </a:t>
                      </a:r>
                      <a:r>
                        <a:rPr b="0" lang="hu-HU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24 103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24 159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25 168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25 396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27 021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 </a:t>
                      </a:r>
                      <a:r>
                        <a:rPr b="0" lang="hu-HU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2 172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2 198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2 134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3 263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3 166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Hong Kong SAR </a:t>
                      </a:r>
                      <a:r>
                        <a:rPr b="0" lang="en-US" sz="1400" spc="-1" strike="noStrike" baseline="30000">
                          <a:solidFill>
                            <a:srgbClr val="2f1311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3 966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5 624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7 304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3 898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7 117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India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14 376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15 181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13 768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14 792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18 405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 </a:t>
                      </a:r>
                      <a:r>
                        <a:rPr b="0" lang="hu-HU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3 395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3 057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3 076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3 088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3 127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Kenya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970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530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1 149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1 228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1 562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 </a:t>
                      </a:r>
                      <a:r>
                        <a:rPr b="0" lang="hu-HU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Reunion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42 096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42 331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37 245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33 980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32 274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 </a:t>
                      </a:r>
                      <a:r>
                        <a:rPr b="0" lang="hu-HU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Singapore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14 999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10 824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11 720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7 062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8 821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 </a:t>
                      </a:r>
                      <a:r>
                        <a:rPr b="0" lang="hu-HU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South Africa, Rep. of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11 279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11 302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14 460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14 010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13 128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 </a:t>
                      </a:r>
                      <a:r>
                        <a:rPr b="0" lang="hu-HU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Switzerland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2 069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2 221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2 294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2 133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1 959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 </a:t>
                      </a:r>
                      <a:r>
                        <a:rPr b="0" lang="hu-HU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United Kingdom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18 029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19 942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21 523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25 035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32 276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400" spc="-1" strike="noStrike">
                          <a:solidFill>
                            <a:srgbClr val="99cc00"/>
                          </a:solidFill>
                          <a:latin typeface="MS Sans Serif"/>
                          <a:ea typeface="Times New Roman"/>
                        </a:rPr>
                        <a:t> </a:t>
                      </a:r>
                      <a:r>
                        <a:rPr b="0" i="1" lang="hu-HU" sz="1400" spc="-1" strike="noStrike">
                          <a:solidFill>
                            <a:srgbClr val="99cc00"/>
                          </a:solidFill>
                          <a:latin typeface="MS Sans Serif"/>
                          <a:ea typeface="Times New Roman"/>
                        </a:rPr>
                        <a:t>Other &amp; Not Stated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00"/>
                          </a:solidFill>
                          <a:latin typeface="MS Sans Serif"/>
                          <a:ea typeface="Times New Roman"/>
                        </a:rPr>
                        <a:t>19 165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18 430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16 354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20 902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00"/>
                          </a:solidFill>
                          <a:latin typeface="Arial"/>
                          <a:ea typeface="Times New Roman"/>
                        </a:rPr>
                        <a:t>24 067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All Countries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163 349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161 001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161 534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161 187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f1311"/>
                          </a:solidFill>
                          <a:latin typeface="MS Sans Serif"/>
                          <a:ea typeface="Times New Roman"/>
                        </a:rPr>
                        <a:t>179 961    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"/>
          <p:cNvSpPr/>
          <p:nvPr/>
        </p:nvSpPr>
        <p:spPr>
          <a:xfrm>
            <a:off x="2034720" y="7688160"/>
            <a:ext cx="461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  <a:ea typeface="Times New Roman"/>
              </a:rPr>
              <a:t>        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046240" y="-1033560"/>
          <a:ext cx="1650960" cy="517680"/>
        </p:xfrm>
        <a:graphic>
          <a:graphicData uri="http://schemas.openxmlformats.org/drawingml/2006/table">
            <a:tbl>
              <a:tblPr/>
              <a:tblGrid>
                <a:gridCol w="16509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0" y="0"/>
          <a:ext cx="8317080" cy="5976720"/>
        </p:xfrm>
        <a:graphic>
          <a:graphicData uri="http://schemas.openxmlformats.org/drawingml/2006/table">
            <a:tbl>
              <a:tblPr/>
              <a:tblGrid>
                <a:gridCol w="1920240"/>
                <a:gridCol w="1513080"/>
                <a:gridCol w="1473120"/>
                <a:gridCol w="2762640"/>
                <a:gridCol w="648000"/>
              </a:tblGrid>
              <a:tr h="52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ccff99"/>
                          </a:solidFill>
                          <a:uFillTx/>
                          <a:latin typeface="Arial"/>
                          <a:ea typeface="Times New Roman"/>
                        </a:rPr>
                        <a:t>Külföldre látogató magyarok országonként 2003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      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ebből: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Megnevezé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Összesen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kiránduló, fő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szálláshelyigé- nyes vendég, fő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vendég- éjszaka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Dél-afrikai Köztársaság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470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470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4 596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Egyiptom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4 533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4 533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97 601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Kenya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 059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 059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9 209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Marokkó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 424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 424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0 896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Tunézia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2 958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2 958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80 945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99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99ff"/>
                          </a:solidFill>
                          <a:latin typeface="Arial"/>
                          <a:ea typeface="Times New Roman"/>
                        </a:rPr>
                        <a:t>Egyéb afrikai országok 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99ff"/>
                          </a:solidFill>
                          <a:latin typeface="Arial"/>
                          <a:ea typeface="Times New Roman"/>
                        </a:rPr>
                        <a:t>1 254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99ff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99ff"/>
                          </a:solidFill>
                          <a:latin typeface="Arial"/>
                          <a:ea typeface="Times New Roman"/>
                        </a:rPr>
                        <a:t>1 254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99ff"/>
                          </a:solidFill>
                          <a:latin typeface="Arial"/>
                          <a:ea typeface="Times New Roman"/>
                        </a:rPr>
                        <a:t>10 154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Összesen  Afrika 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14 698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14 698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943 401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"/>
          <p:cNvSpPr/>
          <p:nvPr/>
        </p:nvSpPr>
        <p:spPr>
          <a:xfrm>
            <a:off x="7236000" y="6141960"/>
            <a:ext cx="1598400" cy="554040"/>
          </a:xfrm>
          <a:custGeom>
            <a:avLst/>
            <a:gdLst>
              <a:gd name="textAreaLeft" fmla="*/ 92880 w 1598400"/>
              <a:gd name="textAreaRight" fmla="*/ 1505520 w 1598400"/>
              <a:gd name="textAreaTop" fmla="*/ 92880 h 554040"/>
              <a:gd name="textAreaBottom" fmla="*/ 461160 h 554040"/>
            </a:gdLst>
            <a:ahLst/>
            <a:rect l="textAreaLeft" t="textAreaTop" r="textAreaRight" b="textAreaBottom"/>
            <a:pathLst>
              <a:path w="62289" h="21600">
                <a:moveTo>
                  <a:pt x="0" y="0"/>
                </a:moveTo>
                <a:lnTo>
                  <a:pt x="62289" y="0"/>
                </a:lnTo>
                <a:lnTo>
                  <a:pt x="62289" y="21600"/>
                </a:lnTo>
                <a:lnTo>
                  <a:pt x="0" y="21600"/>
                </a:lnTo>
                <a:close/>
              </a:path>
              <a:path fill="lightenLess" w="62289" h="21600">
                <a:moveTo>
                  <a:pt x="0" y="0"/>
                </a:moveTo>
                <a:lnTo>
                  <a:pt x="62289" y="0"/>
                </a:lnTo>
                <a:lnTo>
                  <a:pt x="58662" y="3628"/>
                </a:lnTo>
                <a:lnTo>
                  <a:pt x="3628" y="3628"/>
                </a:lnTo>
                <a:close/>
              </a:path>
              <a:path fill="darken" w="62289" h="21600">
                <a:moveTo>
                  <a:pt x="62289" y="0"/>
                </a:moveTo>
                <a:lnTo>
                  <a:pt x="62289" y="21600"/>
                </a:lnTo>
                <a:lnTo>
                  <a:pt x="58662" y="17972"/>
                </a:lnTo>
                <a:lnTo>
                  <a:pt x="58662" y="3628"/>
                </a:lnTo>
                <a:close/>
              </a:path>
              <a:path fill="darkenLess" w="62289" h="21600">
                <a:moveTo>
                  <a:pt x="62289" y="21600"/>
                </a:moveTo>
                <a:lnTo>
                  <a:pt x="0" y="21600"/>
                </a:lnTo>
                <a:lnTo>
                  <a:pt x="3628" y="17972"/>
                </a:lnTo>
                <a:lnTo>
                  <a:pt x="58662" y="17972"/>
                </a:lnTo>
                <a:close/>
              </a:path>
              <a:path fill="lighten" w="62289" h="21600">
                <a:moveTo>
                  <a:pt x="0" y="21600"/>
                </a:moveTo>
                <a:lnTo>
                  <a:pt x="0" y="0"/>
                </a:lnTo>
                <a:lnTo>
                  <a:pt x="3628" y="3628"/>
                </a:lnTo>
                <a:lnTo>
                  <a:pt x="3628" y="1797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Vissz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12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250920" y="476280"/>
          <a:ext cx="7596000" cy="5753160"/>
        </p:xfrm>
        <a:graphic>
          <a:graphicData uri="http://schemas.openxmlformats.org/drawingml/2006/table">
            <a:tbl>
              <a:tblPr/>
              <a:tblGrid>
                <a:gridCol w="1788840"/>
                <a:gridCol w="1374840"/>
                <a:gridCol w="1344600"/>
                <a:gridCol w="1938600"/>
                <a:gridCol w="114912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ccff99"/>
                          </a:solidFill>
                          <a:uFillTx/>
                          <a:latin typeface="Arial"/>
                          <a:ea typeface="Times New Roman"/>
                        </a:rPr>
                        <a:t>Külföldre látogató magyarok országonként 2002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        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ebből: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Megnevezés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Összesen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kiránduló, fő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szálláshelyigé- nyes vendég, fő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vendég- éjszaka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Dél-afrikai Köztársaság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 548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 548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9 261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Egyiptom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2 053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2 053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92 816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Kenya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 329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 329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2 335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Marokkó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814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814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 653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Tunézia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6 511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6 511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28 219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99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99ff"/>
                          </a:solidFill>
                          <a:latin typeface="Arial"/>
                          <a:ea typeface="Times New Roman"/>
                        </a:rPr>
                        <a:t>Egyéb afrikai országok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99ff"/>
                          </a:solidFill>
                          <a:latin typeface="Arial"/>
                          <a:ea typeface="Times New Roman"/>
                        </a:rPr>
                        <a:t>788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99ff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99ff"/>
                          </a:solidFill>
                          <a:latin typeface="Arial"/>
                          <a:ea typeface="Times New Roman"/>
                        </a:rPr>
                        <a:t>788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99ff"/>
                          </a:solidFill>
                          <a:latin typeface="Arial"/>
                          <a:ea typeface="Times New Roman"/>
                        </a:rPr>
                        <a:t>7 721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Összesen Afrika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5 043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5 043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78 005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7164360" y="6327720"/>
            <a:ext cx="1598760" cy="554040"/>
          </a:xfrm>
          <a:custGeom>
            <a:avLst/>
            <a:gdLst>
              <a:gd name="textAreaLeft" fmla="*/ 92880 w 1598760"/>
              <a:gd name="textAreaRight" fmla="*/ 1505880 w 1598760"/>
              <a:gd name="textAreaTop" fmla="*/ 92880 h 554040"/>
              <a:gd name="textAreaBottom" fmla="*/ 461160 h 554040"/>
            </a:gdLst>
            <a:ahLst/>
            <a:rect l="textAreaLeft" t="textAreaTop" r="textAreaRight" b="textAreaBottom"/>
            <a:pathLst>
              <a:path w="62303" h="21600">
                <a:moveTo>
                  <a:pt x="0" y="0"/>
                </a:moveTo>
                <a:lnTo>
                  <a:pt x="62303" y="0"/>
                </a:lnTo>
                <a:lnTo>
                  <a:pt x="62303" y="21600"/>
                </a:lnTo>
                <a:lnTo>
                  <a:pt x="0" y="21600"/>
                </a:lnTo>
                <a:close/>
              </a:path>
              <a:path fill="lightenLess" w="62303" h="21600">
                <a:moveTo>
                  <a:pt x="0" y="0"/>
                </a:moveTo>
                <a:lnTo>
                  <a:pt x="62303" y="0"/>
                </a:lnTo>
                <a:lnTo>
                  <a:pt x="58676" y="3628"/>
                </a:lnTo>
                <a:lnTo>
                  <a:pt x="3628" y="3628"/>
                </a:lnTo>
                <a:close/>
              </a:path>
              <a:path fill="darken" w="62303" h="21600">
                <a:moveTo>
                  <a:pt x="62303" y="0"/>
                </a:moveTo>
                <a:lnTo>
                  <a:pt x="62303" y="21600"/>
                </a:lnTo>
                <a:lnTo>
                  <a:pt x="58676" y="17972"/>
                </a:lnTo>
                <a:lnTo>
                  <a:pt x="58676" y="3628"/>
                </a:lnTo>
                <a:close/>
              </a:path>
              <a:path fill="darkenLess" w="62303" h="21600">
                <a:moveTo>
                  <a:pt x="62303" y="21600"/>
                </a:moveTo>
                <a:lnTo>
                  <a:pt x="0" y="21600"/>
                </a:lnTo>
                <a:lnTo>
                  <a:pt x="3628" y="17972"/>
                </a:lnTo>
                <a:lnTo>
                  <a:pt x="58676" y="17972"/>
                </a:lnTo>
                <a:close/>
              </a:path>
              <a:path fill="lighten" w="62303" h="21600">
                <a:moveTo>
                  <a:pt x="0" y="21600"/>
                </a:moveTo>
                <a:lnTo>
                  <a:pt x="0" y="0"/>
                </a:lnTo>
                <a:lnTo>
                  <a:pt x="3628" y="3628"/>
                </a:lnTo>
                <a:lnTo>
                  <a:pt x="3628" y="1797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Vissz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219240" y="227160"/>
          <a:ext cx="7476840" cy="5871960"/>
        </p:xfrm>
        <a:graphic>
          <a:graphicData uri="http://schemas.openxmlformats.org/drawingml/2006/table">
            <a:tbl>
              <a:tblPr/>
              <a:tblGrid>
                <a:gridCol w="2022480"/>
                <a:gridCol w="1130040"/>
                <a:gridCol w="1108080"/>
                <a:gridCol w="1596960"/>
                <a:gridCol w="1619280"/>
              </a:tblGrid>
              <a:tr h="679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ccff99"/>
                          </a:solidFill>
                          <a:uFillTx/>
                          <a:latin typeface="Arial"/>
                          <a:ea typeface="Times New Roman"/>
                        </a:rPr>
                        <a:t>Magyarországra látogató külföldiek országonként 2003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         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333333"/>
                          </a:solidFill>
                          <a:uFillTx/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ebből: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7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Megnevezés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Összesen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kiránduló, fő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szálláshelyigé- nyes vendég, fő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vendégéjszaka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Dél-afrikai Köztársaság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26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06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88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Egyiptom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Kenya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Marokkó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Tunézia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99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99ff"/>
                          </a:solidFill>
                          <a:latin typeface="Arial"/>
                          <a:ea typeface="Times New Roman"/>
                        </a:rPr>
                        <a:t>Egyéb afrikai országok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99ff"/>
                          </a:solidFill>
                          <a:latin typeface="Arial"/>
                          <a:ea typeface="Times New Roman"/>
                        </a:rPr>
                        <a:t>305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99ff"/>
                          </a:solidFill>
                          <a:latin typeface="Arial"/>
                          <a:ea typeface="Times New Roman"/>
                        </a:rPr>
                        <a:t>148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99ff"/>
                          </a:solidFill>
                          <a:latin typeface="Arial"/>
                          <a:ea typeface="Times New Roman"/>
                        </a:rPr>
                        <a:t>157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99ff"/>
                          </a:solidFill>
                          <a:latin typeface="Arial"/>
                          <a:ea typeface="Times New Roman"/>
                        </a:rPr>
                        <a:t>636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Összesen Afrika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31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68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 224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">
            <a:hlinkClick r:id="rId1" action="ppaction://hlinksldjump"/>
          </p:cNvPr>
          <p:cNvSpPr/>
          <p:nvPr/>
        </p:nvSpPr>
        <p:spPr>
          <a:xfrm>
            <a:off x="7164360" y="6141960"/>
            <a:ext cx="1598760" cy="554040"/>
          </a:xfrm>
          <a:custGeom>
            <a:avLst/>
            <a:gdLst>
              <a:gd name="textAreaLeft" fmla="*/ 92880 w 1598760"/>
              <a:gd name="textAreaRight" fmla="*/ 1505880 w 1598760"/>
              <a:gd name="textAreaTop" fmla="*/ 92880 h 554040"/>
              <a:gd name="textAreaBottom" fmla="*/ 461160 h 554040"/>
            </a:gdLst>
            <a:ahLst/>
            <a:rect l="textAreaLeft" t="textAreaTop" r="textAreaRight" b="textAreaBottom"/>
            <a:pathLst>
              <a:path w="62303" h="21600">
                <a:moveTo>
                  <a:pt x="0" y="0"/>
                </a:moveTo>
                <a:lnTo>
                  <a:pt x="62303" y="0"/>
                </a:lnTo>
                <a:lnTo>
                  <a:pt x="62303" y="21600"/>
                </a:lnTo>
                <a:lnTo>
                  <a:pt x="0" y="21600"/>
                </a:lnTo>
                <a:close/>
              </a:path>
              <a:path fill="lightenLess" w="62303" h="21600">
                <a:moveTo>
                  <a:pt x="0" y="0"/>
                </a:moveTo>
                <a:lnTo>
                  <a:pt x="62303" y="0"/>
                </a:lnTo>
                <a:lnTo>
                  <a:pt x="58676" y="3628"/>
                </a:lnTo>
                <a:lnTo>
                  <a:pt x="3628" y="3628"/>
                </a:lnTo>
                <a:close/>
              </a:path>
              <a:path fill="darken" w="62303" h="21600">
                <a:moveTo>
                  <a:pt x="62303" y="0"/>
                </a:moveTo>
                <a:lnTo>
                  <a:pt x="62303" y="21600"/>
                </a:lnTo>
                <a:lnTo>
                  <a:pt x="58676" y="17972"/>
                </a:lnTo>
                <a:lnTo>
                  <a:pt x="58676" y="3628"/>
                </a:lnTo>
                <a:close/>
              </a:path>
              <a:path fill="darkenLess" w="62303" h="21600">
                <a:moveTo>
                  <a:pt x="62303" y="21600"/>
                </a:moveTo>
                <a:lnTo>
                  <a:pt x="0" y="21600"/>
                </a:lnTo>
                <a:lnTo>
                  <a:pt x="3628" y="17972"/>
                </a:lnTo>
                <a:lnTo>
                  <a:pt x="58676" y="17972"/>
                </a:lnTo>
                <a:close/>
              </a:path>
              <a:path fill="lighten" w="62303" h="21600">
                <a:moveTo>
                  <a:pt x="0" y="21600"/>
                </a:moveTo>
                <a:lnTo>
                  <a:pt x="0" y="0"/>
                </a:lnTo>
                <a:lnTo>
                  <a:pt x="3628" y="3628"/>
                </a:lnTo>
                <a:lnTo>
                  <a:pt x="3628" y="1797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Vissz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219240" y="227160"/>
          <a:ext cx="7476840" cy="5868720"/>
        </p:xfrm>
        <a:graphic>
          <a:graphicData uri="http://schemas.openxmlformats.org/drawingml/2006/table">
            <a:tbl>
              <a:tblPr/>
              <a:tblGrid>
                <a:gridCol w="2158920"/>
                <a:gridCol w="1103400"/>
                <a:gridCol w="1079280"/>
                <a:gridCol w="1558800"/>
                <a:gridCol w="1576440"/>
              </a:tblGrid>
              <a:tr h="71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ccff99"/>
                          </a:solidFill>
                          <a:uFillTx/>
                          <a:latin typeface="Arial"/>
                          <a:ea typeface="Times New Roman"/>
                        </a:rPr>
                        <a:t>Magyarországra látogató külföldiek országonként 2002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ebből: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Megnevezés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Összesen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kiránduló, fő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szálláshelyigé- nyes vendég, fő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vendégéjszaka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Dél-afrikai Köztársaság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94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94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06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Egyiptom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Kenya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Marokkó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Tunézia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99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99ff"/>
                          </a:solidFill>
                          <a:latin typeface="Arial"/>
                          <a:ea typeface="Times New Roman"/>
                        </a:rPr>
                        <a:t>Egyéb afrikai országok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99ff"/>
                          </a:solidFill>
                          <a:latin typeface="Arial"/>
                          <a:ea typeface="Times New Roman"/>
                        </a:rPr>
                        <a:t>431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99ff"/>
                          </a:solidFill>
                          <a:latin typeface="Arial"/>
                          <a:ea typeface="Times New Roman"/>
                        </a:rPr>
                        <a:t>38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99ff"/>
                          </a:solidFill>
                          <a:latin typeface="Arial"/>
                          <a:ea typeface="Times New Roman"/>
                        </a:rPr>
                        <a:t>393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99ff"/>
                          </a:solidFill>
                          <a:latin typeface="Arial"/>
                          <a:ea typeface="Times New Roman"/>
                        </a:rPr>
                        <a:t>1 402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Összesen Afrika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25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8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487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 708</a:t>
                      </a:r>
                      <a:endParaRPr b="0" lang="en-US" sz="1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">
            <a:hlinkClick r:id="rId1" action="ppaction://hlinksldjump"/>
          </p:cNvPr>
          <p:cNvSpPr/>
          <p:nvPr/>
        </p:nvSpPr>
        <p:spPr>
          <a:xfrm>
            <a:off x="7093080" y="6141960"/>
            <a:ext cx="1598400" cy="554040"/>
          </a:xfrm>
          <a:custGeom>
            <a:avLst/>
            <a:gdLst>
              <a:gd name="textAreaLeft" fmla="*/ 92880 w 1598400"/>
              <a:gd name="textAreaRight" fmla="*/ 1505520 w 1598400"/>
              <a:gd name="textAreaTop" fmla="*/ 92880 h 554040"/>
              <a:gd name="textAreaBottom" fmla="*/ 461160 h 554040"/>
            </a:gdLst>
            <a:ahLst/>
            <a:rect l="textAreaLeft" t="textAreaTop" r="textAreaRight" b="textAreaBottom"/>
            <a:pathLst>
              <a:path w="62289" h="21600">
                <a:moveTo>
                  <a:pt x="0" y="0"/>
                </a:moveTo>
                <a:lnTo>
                  <a:pt x="62289" y="0"/>
                </a:lnTo>
                <a:lnTo>
                  <a:pt x="62289" y="21600"/>
                </a:lnTo>
                <a:lnTo>
                  <a:pt x="0" y="21600"/>
                </a:lnTo>
                <a:close/>
              </a:path>
              <a:path fill="lightenLess" w="62289" h="21600">
                <a:moveTo>
                  <a:pt x="0" y="0"/>
                </a:moveTo>
                <a:lnTo>
                  <a:pt x="62289" y="0"/>
                </a:lnTo>
                <a:lnTo>
                  <a:pt x="58662" y="3628"/>
                </a:lnTo>
                <a:lnTo>
                  <a:pt x="3628" y="3628"/>
                </a:lnTo>
                <a:close/>
              </a:path>
              <a:path fill="darken" w="62289" h="21600">
                <a:moveTo>
                  <a:pt x="62289" y="0"/>
                </a:moveTo>
                <a:lnTo>
                  <a:pt x="62289" y="21600"/>
                </a:lnTo>
                <a:lnTo>
                  <a:pt x="58662" y="17972"/>
                </a:lnTo>
                <a:lnTo>
                  <a:pt x="58662" y="3628"/>
                </a:lnTo>
                <a:close/>
              </a:path>
              <a:path fill="darkenLess" w="62289" h="21600">
                <a:moveTo>
                  <a:pt x="62289" y="21600"/>
                </a:moveTo>
                <a:lnTo>
                  <a:pt x="0" y="21600"/>
                </a:lnTo>
                <a:lnTo>
                  <a:pt x="3628" y="17972"/>
                </a:lnTo>
                <a:lnTo>
                  <a:pt x="58662" y="17972"/>
                </a:lnTo>
                <a:close/>
              </a:path>
              <a:path fill="lighten" w="62289" h="21600">
                <a:moveTo>
                  <a:pt x="0" y="21600"/>
                </a:moveTo>
                <a:lnTo>
                  <a:pt x="0" y="0"/>
                </a:lnTo>
                <a:lnTo>
                  <a:pt x="3628" y="3628"/>
                </a:lnTo>
                <a:lnTo>
                  <a:pt x="3628" y="1797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Vissz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0" y="2565360"/>
            <a:ext cx="8880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99"/>
                </a:solidFill>
                <a:latin typeface="Arial"/>
              </a:rPr>
              <a:t>Köszönöm, hogy meghallgattatok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rId2" action="ppaction://hlinksldjump"/>
          </p:cNvPr>
          <p:cNvSpPr/>
          <p:nvPr/>
        </p:nvSpPr>
        <p:spPr>
          <a:xfrm>
            <a:off x="6878520" y="5780160"/>
            <a:ext cx="1598760" cy="554040"/>
          </a:xfrm>
          <a:custGeom>
            <a:avLst/>
            <a:gdLst>
              <a:gd name="textAreaLeft" fmla="*/ 92880 w 1598760"/>
              <a:gd name="textAreaRight" fmla="*/ 1505880 w 1598760"/>
              <a:gd name="textAreaTop" fmla="*/ 92880 h 554040"/>
              <a:gd name="textAreaBottom" fmla="*/ 461160 h 554040"/>
            </a:gdLst>
            <a:ahLst/>
            <a:rect l="textAreaLeft" t="textAreaTop" r="textAreaRight" b="textAreaBottom"/>
            <a:pathLst>
              <a:path w="62303" h="21600">
                <a:moveTo>
                  <a:pt x="0" y="0"/>
                </a:moveTo>
                <a:lnTo>
                  <a:pt x="62303" y="0"/>
                </a:lnTo>
                <a:lnTo>
                  <a:pt x="62303" y="21600"/>
                </a:lnTo>
                <a:lnTo>
                  <a:pt x="0" y="21600"/>
                </a:lnTo>
                <a:close/>
              </a:path>
              <a:path fill="lightenLess" w="62303" h="21600">
                <a:moveTo>
                  <a:pt x="0" y="0"/>
                </a:moveTo>
                <a:lnTo>
                  <a:pt x="62303" y="0"/>
                </a:lnTo>
                <a:lnTo>
                  <a:pt x="58676" y="3628"/>
                </a:lnTo>
                <a:lnTo>
                  <a:pt x="3628" y="3628"/>
                </a:lnTo>
                <a:close/>
              </a:path>
              <a:path fill="darken" w="62303" h="21600">
                <a:moveTo>
                  <a:pt x="62303" y="0"/>
                </a:moveTo>
                <a:lnTo>
                  <a:pt x="62303" y="21600"/>
                </a:lnTo>
                <a:lnTo>
                  <a:pt x="58676" y="17972"/>
                </a:lnTo>
                <a:lnTo>
                  <a:pt x="58676" y="3628"/>
                </a:lnTo>
                <a:close/>
              </a:path>
              <a:path fill="darkenLess" w="62303" h="21600">
                <a:moveTo>
                  <a:pt x="62303" y="21600"/>
                </a:moveTo>
                <a:lnTo>
                  <a:pt x="0" y="21600"/>
                </a:lnTo>
                <a:lnTo>
                  <a:pt x="3628" y="17972"/>
                </a:lnTo>
                <a:lnTo>
                  <a:pt x="58676" y="17972"/>
                </a:lnTo>
                <a:close/>
              </a:path>
              <a:path fill="lighten" w="62303" h="21600">
                <a:moveTo>
                  <a:pt x="0" y="21600"/>
                </a:moveTo>
                <a:lnTo>
                  <a:pt x="0" y="0"/>
                </a:lnTo>
                <a:lnTo>
                  <a:pt x="3628" y="3628"/>
                </a:lnTo>
                <a:lnTo>
                  <a:pt x="3628" y="1797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Vissz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95280" y="3333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ff99"/>
                </a:solidFill>
                <a:uFillTx/>
                <a:latin typeface="Times New Roman"/>
              </a:rPr>
              <a:t>Rövid történelm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836640"/>
            <a:ext cx="720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66ffff"/>
                </a:solidFill>
                <a:latin typeface="Times New Roman"/>
              </a:rPr>
              <a:t>Arabok, portugálok, hollandok (Maurice Nassavski herceg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66ffff"/>
                </a:solidFill>
                <a:latin typeface="Times New Roman"/>
              </a:rPr>
              <a:t>Franciák (Ile de France), angolok (1968. Brit Nemzetközösség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2205000"/>
            <a:ext cx="4535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ff99"/>
                </a:solidFill>
                <a:uFillTx/>
                <a:latin typeface="Times New Roman"/>
                <a:ea typeface="Times New Roman"/>
              </a:rPr>
              <a:t>Államform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Mauritiusi Köztársaság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1968. márc. 12-én nyerte el függetlenségét az Angol Királyságtól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mauritus" descr="Flag"/>
          <p:cNvPicPr/>
          <p:nvPr/>
        </p:nvPicPr>
        <p:blipFill>
          <a:blip r:embed="rId1"/>
          <a:stretch/>
        </p:blipFill>
        <p:spPr>
          <a:xfrm>
            <a:off x="5796000" y="2637000"/>
            <a:ext cx="1380960" cy="7426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68360" y="4437000"/>
            <a:ext cx="5184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ccff99"/>
                </a:solidFill>
                <a:uFillTx/>
                <a:latin typeface="Times New Roman"/>
              </a:rPr>
              <a:t>Címere</a:t>
            </a:r>
            <a:r>
              <a:rPr b="1" lang="hu-HU" sz="2800" spc="-1" strike="noStrike" u="sng">
                <a:solidFill>
                  <a:srgbClr val="ccff99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66ffff"/>
                </a:solidFill>
                <a:latin typeface="Times New Roman"/>
              </a:rPr>
              <a:t>Mottó: Stella Clavisque Maris Indici</a:t>
            </a:r>
            <a:br>
              <a:rPr sz="2000"/>
            </a:br>
            <a:r>
              <a:rPr b="0" lang="hu-HU" sz="2000" spc="-1" strike="noStrike">
                <a:solidFill>
                  <a:srgbClr val="66ffff"/>
                </a:solidFill>
                <a:latin typeface="Times New Roman"/>
              </a:rPr>
              <a:t>(latin: Az Indiai óceán kulcsa és csillaga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images" descr=""/>
          <p:cNvPicPr/>
          <p:nvPr/>
        </p:nvPicPr>
        <p:blipFill>
          <a:blip r:embed="rId2"/>
          <a:stretch/>
        </p:blipFill>
        <p:spPr>
          <a:xfrm>
            <a:off x="5508720" y="4365720"/>
            <a:ext cx="171432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14400" y="1752480"/>
            <a:ext cx="7772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228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ff99"/>
                </a:solidFill>
                <a:uFillTx/>
                <a:latin typeface="Arial"/>
              </a:rPr>
              <a:t>Éghajla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91440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cc"/>
                </a:solidFill>
                <a:latin typeface="Arial"/>
              </a:rPr>
              <a:t>Az ország keleti része januárban és februárban sokkal szárazabb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cc"/>
                </a:solidFill>
                <a:latin typeface="Arial"/>
              </a:rPr>
              <a:t>Nyugati részek és a középső területek csapadékosabbak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20574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ff99"/>
                </a:solidFill>
                <a:uFillTx/>
                <a:latin typeface="Arial"/>
              </a:rPr>
              <a:t>Időzón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565360"/>
            <a:ext cx="154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GMT + 4 óra</a:t>
            </a:r>
            <a:r>
              <a:rPr b="0" lang="en-US" sz="1200" spc="-1" strike="noStrike">
                <a:solidFill>
                  <a:srgbClr val="79af7d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997360"/>
            <a:ext cx="10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ff99"/>
                </a:solidFill>
                <a:uFillTx/>
                <a:latin typeface="Arial"/>
              </a:rPr>
              <a:t>Pénz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429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mauritiusi rúpia /MUR/, aprópénze a cent. 1 rúpia=100 cent</a:t>
            </a:r>
            <a:r>
              <a:rPr b="0" lang="en-US" sz="1800" spc="-1" strike="noStrike">
                <a:solidFill>
                  <a:srgbClr val="ff9933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" descr="MU-N051-VP"/>
          <p:cNvPicPr/>
          <p:nvPr/>
        </p:nvPicPr>
        <p:blipFill>
          <a:blip r:embed="rId1"/>
          <a:stretch/>
        </p:blipFill>
        <p:spPr>
          <a:xfrm>
            <a:off x="179280" y="3933720"/>
            <a:ext cx="3429000" cy="16588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MU-N050-VB"/>
          <p:cNvPicPr/>
          <p:nvPr/>
        </p:nvPicPr>
        <p:blipFill>
          <a:blip r:embed="rId2"/>
          <a:stretch/>
        </p:blipFill>
        <p:spPr>
          <a:xfrm>
            <a:off x="3851280" y="3933720"/>
            <a:ext cx="3429000" cy="1671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5516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ff99"/>
                </a:solidFill>
                <a:uFillTx/>
                <a:latin typeface="Arial"/>
              </a:rPr>
              <a:t>Főváros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602136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40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ffcc"/>
                </a:solidFill>
                <a:latin typeface="Arial"/>
                <a:ea typeface="Arial"/>
              </a:rPr>
              <a:t>Port Lui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240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>
            <a:hlinkClick r:id="rId3" action="ppaction://hlinksldjump"/>
          </p:cNvPr>
          <p:cNvSpPr/>
          <p:nvPr/>
        </p:nvSpPr>
        <p:spPr>
          <a:xfrm>
            <a:off x="6878520" y="5780160"/>
            <a:ext cx="1598760" cy="554040"/>
          </a:xfrm>
          <a:custGeom>
            <a:avLst/>
            <a:gdLst>
              <a:gd name="textAreaLeft" fmla="*/ 92880 w 1598760"/>
              <a:gd name="textAreaRight" fmla="*/ 1505880 w 1598760"/>
              <a:gd name="textAreaTop" fmla="*/ 92880 h 554040"/>
              <a:gd name="textAreaBottom" fmla="*/ 461160 h 554040"/>
            </a:gdLst>
            <a:ahLst/>
            <a:rect l="textAreaLeft" t="textAreaTop" r="textAreaRight" b="textAreaBottom"/>
            <a:pathLst>
              <a:path w="62303" h="21600">
                <a:moveTo>
                  <a:pt x="0" y="0"/>
                </a:moveTo>
                <a:lnTo>
                  <a:pt x="62303" y="0"/>
                </a:lnTo>
                <a:lnTo>
                  <a:pt x="62303" y="21600"/>
                </a:lnTo>
                <a:lnTo>
                  <a:pt x="0" y="21600"/>
                </a:lnTo>
                <a:close/>
              </a:path>
              <a:path fill="lightenLess" w="62303" h="21600">
                <a:moveTo>
                  <a:pt x="0" y="0"/>
                </a:moveTo>
                <a:lnTo>
                  <a:pt x="62303" y="0"/>
                </a:lnTo>
                <a:lnTo>
                  <a:pt x="58676" y="3628"/>
                </a:lnTo>
                <a:lnTo>
                  <a:pt x="3628" y="3628"/>
                </a:lnTo>
                <a:close/>
              </a:path>
              <a:path fill="darken" w="62303" h="21600">
                <a:moveTo>
                  <a:pt x="62303" y="0"/>
                </a:moveTo>
                <a:lnTo>
                  <a:pt x="62303" y="21600"/>
                </a:lnTo>
                <a:lnTo>
                  <a:pt x="58676" y="17972"/>
                </a:lnTo>
                <a:lnTo>
                  <a:pt x="58676" y="3628"/>
                </a:lnTo>
                <a:close/>
              </a:path>
              <a:path fill="darkenLess" w="62303" h="21600">
                <a:moveTo>
                  <a:pt x="62303" y="21600"/>
                </a:moveTo>
                <a:lnTo>
                  <a:pt x="0" y="21600"/>
                </a:lnTo>
                <a:lnTo>
                  <a:pt x="3628" y="17972"/>
                </a:lnTo>
                <a:lnTo>
                  <a:pt x="58676" y="17972"/>
                </a:lnTo>
                <a:close/>
              </a:path>
              <a:path fill="lighten" w="62303" h="21600">
                <a:moveTo>
                  <a:pt x="0" y="21600"/>
                </a:moveTo>
                <a:lnTo>
                  <a:pt x="0" y="0"/>
                </a:lnTo>
                <a:lnTo>
                  <a:pt x="3628" y="3628"/>
                </a:lnTo>
                <a:lnTo>
                  <a:pt x="3628" y="1797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Vissz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ccff99"/>
                </a:solidFill>
                <a:uFillTx/>
                <a:latin typeface="Arial"/>
              </a:rPr>
              <a:t>Lakossá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549360"/>
            <a:ext cx="59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ind-mauritiusi 68 %, kreol 27 % kínai 2 % egyéb 3 %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280" y="90792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ff99"/>
                </a:solidFill>
                <a:uFillTx/>
                <a:latin typeface="Arial"/>
                <a:ea typeface="Times New Roman"/>
              </a:rPr>
              <a:t>Vallás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hindu 52%, keresztény 28,3 %, muszlin 16,6 %, egyéb: 3,1 %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" y="1676520"/>
            <a:ext cx="60753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ff99"/>
                </a:solidFill>
                <a:uFillTx/>
                <a:latin typeface="Arial"/>
              </a:rPr>
              <a:t>Nyelv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cc"/>
                </a:solidFill>
                <a:latin typeface="Arial"/>
              </a:rPr>
              <a:t>Hivatalos nyelv az angol, kreol, francia, hindi, kínai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280" y="2781360"/>
            <a:ext cx="8991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ff99"/>
                </a:solidFill>
                <a:uFillTx/>
                <a:latin typeface="Arial"/>
                <a:ea typeface="Times New Roman"/>
              </a:rPr>
              <a:t>Ipa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cc"/>
                </a:solidFill>
                <a:latin typeface="Arial"/>
              </a:rPr>
              <a:t>Élelmiszer feldolgozás!, cukornád, fűszerfeldolgozás, hal-és húsipar, faipar, textilipa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573360"/>
            <a:ext cx="868680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 u="sng">
                <a:solidFill>
                  <a:srgbClr val="ccff99"/>
                </a:solidFill>
                <a:uFillTx/>
                <a:latin typeface="Arial"/>
                <a:ea typeface="Times New Roman"/>
              </a:rPr>
              <a:t>Kereskedele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Legfontosabb kereskedelmi partnerei: Nagy-Britannia, Franciaország, Dél-Afrikai Köztársaság.</a:t>
            </a:r>
            <a:r>
              <a:rPr b="0" i="1" lang="en-US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 Legfontosabb kiviteli cikkei:</a:t>
            </a:r>
            <a:r>
              <a:rPr b="0" lang="en-US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 cukor, tea, fa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50920" y="4724280"/>
            <a:ext cx="4305240" cy="1984320"/>
            <a:chOff x="250920" y="4724280"/>
            <a:chExt cx="4305240" cy="1984320"/>
          </a:xfrm>
        </p:grpSpPr>
        <p:grpSp>
          <p:nvGrpSpPr>
            <p:cNvPr id="228" name=""/>
            <p:cNvGrpSpPr/>
            <p:nvPr/>
          </p:nvGrpSpPr>
          <p:grpSpPr>
            <a:xfrm>
              <a:off x="255600" y="4728960"/>
              <a:ext cx="4295880" cy="1974960"/>
              <a:chOff x="255600" y="4728960"/>
              <a:chExt cx="4295880" cy="197496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255600" y="4728960"/>
                <a:ext cx="2127240" cy="465120"/>
                <a:chOff x="255600" y="4728960"/>
                <a:chExt cx="2127240" cy="4651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274680" y="4748040"/>
                  <a:ext cx="20890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99ffcc"/>
                      </a:solidFill>
                      <a:latin typeface="Verdana"/>
                      <a:ea typeface="Times New Roman"/>
                    </a:rPr>
                    <a:t>GDP: </a:t>
                  </a:r>
                  <a:endParaRPr b="0" lang="en-US" sz="1400" spc="-1" strike="noStrike">
                    <a:solidFill>
                      <a:srgbClr val="2f1311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55600" y="4728960"/>
                  <a:ext cx="212724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2382840" y="4728960"/>
                <a:ext cx="2168640" cy="465120"/>
                <a:chOff x="2382840" y="4728960"/>
                <a:chExt cx="2168640" cy="4651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2401920" y="4748040"/>
                  <a:ext cx="2130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8000"/>
                      </a:solidFill>
                      <a:latin typeface="Verdana"/>
                      <a:ea typeface="Times New Roman"/>
                    </a:rPr>
                    <a:t>13,85 billió USD (2003)</a:t>
                  </a:r>
                  <a:endParaRPr b="0" lang="en-US" sz="1200" spc="-1" strike="noStrike">
                    <a:solidFill>
                      <a:srgbClr val="2f1311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382840" y="4728960"/>
                  <a:ext cx="216864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255600" y="5232240"/>
                <a:ext cx="2127240" cy="465120"/>
                <a:chOff x="255600" y="5232240"/>
                <a:chExt cx="2127240" cy="4651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74680" y="5251320"/>
                  <a:ext cx="20890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99ffcc"/>
                      </a:solidFill>
                      <a:latin typeface="Verdana"/>
                      <a:ea typeface="Times New Roman"/>
                    </a:rPr>
                    <a:t>GDP/fő:</a:t>
                  </a:r>
                  <a:endParaRPr b="0" lang="en-US" sz="1400" spc="-1" strike="noStrike">
                    <a:solidFill>
                      <a:srgbClr val="2f1311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55600" y="5232240"/>
                  <a:ext cx="212724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2382840" y="5232240"/>
                <a:ext cx="2168640" cy="465120"/>
                <a:chOff x="2382840" y="5232240"/>
                <a:chExt cx="2168640" cy="4651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401920" y="5251320"/>
                  <a:ext cx="2130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8000"/>
                      </a:solidFill>
                      <a:latin typeface="Verdana"/>
                      <a:ea typeface="Times New Roman"/>
                    </a:rPr>
                    <a:t>11400 USD/ fő (2003)</a:t>
                  </a:r>
                  <a:endParaRPr b="0" lang="en-US" sz="1200" spc="-1" strike="noStrike">
                    <a:solidFill>
                      <a:srgbClr val="2f1311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382840" y="5232240"/>
                  <a:ext cx="216864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255600" y="5735520"/>
                <a:ext cx="2127240" cy="465120"/>
                <a:chOff x="255600" y="5735520"/>
                <a:chExt cx="2127240" cy="4651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274680" y="5754600"/>
                  <a:ext cx="20890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99ffcc"/>
                      </a:solidFill>
                      <a:latin typeface="Verdana"/>
                      <a:ea typeface="Times New Roman"/>
                    </a:rPr>
                    <a:t>Gazdasági növekedés: </a:t>
                  </a:r>
                  <a:endParaRPr b="0" lang="en-US" sz="1400" spc="-1" strike="noStrike">
                    <a:solidFill>
                      <a:srgbClr val="2f1311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55600" y="5735520"/>
                  <a:ext cx="212724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2382840" y="5735520"/>
                <a:ext cx="2168640" cy="465120"/>
                <a:chOff x="2382840" y="5735520"/>
                <a:chExt cx="2168640" cy="4651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2401920" y="5754600"/>
                  <a:ext cx="2130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8000"/>
                      </a:solidFill>
                      <a:latin typeface="Verdana"/>
                      <a:ea typeface="Times New Roman"/>
                    </a:rPr>
                    <a:t>4.1 % (2003)</a:t>
                  </a:r>
                  <a:endParaRPr b="0" lang="en-US" sz="1400" spc="-1" strike="noStrike">
                    <a:solidFill>
                      <a:srgbClr val="2f1311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382840" y="5735520"/>
                  <a:ext cx="216864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255600" y="6238800"/>
                <a:ext cx="2127240" cy="465120"/>
                <a:chOff x="255600" y="6238800"/>
                <a:chExt cx="2127240" cy="4651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274680" y="6257880"/>
                  <a:ext cx="20890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99ffcc"/>
                      </a:solidFill>
                      <a:latin typeface="Verdana"/>
                      <a:ea typeface="Times New Roman"/>
                    </a:rPr>
                    <a:t>Infláció: </a:t>
                  </a:r>
                  <a:endParaRPr b="0" lang="en-US" sz="1400" spc="-1" strike="noStrike">
                    <a:solidFill>
                      <a:srgbClr val="2f1311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55600" y="6238800"/>
                  <a:ext cx="212724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2382840" y="6238800"/>
                <a:ext cx="2168640" cy="465120"/>
                <a:chOff x="2382840" y="6238800"/>
                <a:chExt cx="2168640" cy="4651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2401920" y="6257880"/>
                  <a:ext cx="2130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8000"/>
                      </a:solidFill>
                      <a:latin typeface="Verdana"/>
                      <a:ea typeface="Times New Roman"/>
                    </a:rPr>
                    <a:t>6.4 % (2002)</a:t>
                  </a:r>
                  <a:endParaRPr b="0" lang="en-US" sz="1200" spc="-1" strike="noStrike">
                    <a:solidFill>
                      <a:srgbClr val="2f1311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382840" y="6238800"/>
                  <a:ext cx="216864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3" name=""/>
            <p:cNvSpPr/>
            <p:nvPr/>
          </p:nvSpPr>
          <p:spPr>
            <a:xfrm>
              <a:off x="250920" y="4724280"/>
              <a:ext cx="4305240" cy="1984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6878520" y="5780160"/>
            <a:ext cx="1598760" cy="554040"/>
          </a:xfrm>
          <a:custGeom>
            <a:avLst/>
            <a:gdLst>
              <a:gd name="textAreaLeft" fmla="*/ 92880 w 1598760"/>
              <a:gd name="textAreaRight" fmla="*/ 1505880 w 1598760"/>
              <a:gd name="textAreaTop" fmla="*/ 92880 h 554040"/>
              <a:gd name="textAreaBottom" fmla="*/ 461160 h 554040"/>
            </a:gdLst>
            <a:ahLst/>
            <a:rect l="textAreaLeft" t="textAreaTop" r="textAreaRight" b="textAreaBottom"/>
            <a:pathLst>
              <a:path w="62303" h="21600">
                <a:moveTo>
                  <a:pt x="0" y="0"/>
                </a:moveTo>
                <a:lnTo>
                  <a:pt x="62303" y="0"/>
                </a:lnTo>
                <a:lnTo>
                  <a:pt x="62303" y="21600"/>
                </a:lnTo>
                <a:lnTo>
                  <a:pt x="0" y="21600"/>
                </a:lnTo>
                <a:close/>
              </a:path>
              <a:path fill="lightenLess" w="62303" h="21600">
                <a:moveTo>
                  <a:pt x="0" y="0"/>
                </a:moveTo>
                <a:lnTo>
                  <a:pt x="62303" y="0"/>
                </a:lnTo>
                <a:lnTo>
                  <a:pt x="58676" y="3628"/>
                </a:lnTo>
                <a:lnTo>
                  <a:pt x="3628" y="3628"/>
                </a:lnTo>
                <a:close/>
              </a:path>
              <a:path fill="darken" w="62303" h="21600">
                <a:moveTo>
                  <a:pt x="62303" y="0"/>
                </a:moveTo>
                <a:lnTo>
                  <a:pt x="62303" y="21600"/>
                </a:lnTo>
                <a:lnTo>
                  <a:pt x="58676" y="17972"/>
                </a:lnTo>
                <a:lnTo>
                  <a:pt x="58676" y="3628"/>
                </a:lnTo>
                <a:close/>
              </a:path>
              <a:path fill="darkenLess" w="62303" h="21600">
                <a:moveTo>
                  <a:pt x="62303" y="21600"/>
                </a:moveTo>
                <a:lnTo>
                  <a:pt x="0" y="21600"/>
                </a:lnTo>
                <a:lnTo>
                  <a:pt x="3628" y="17972"/>
                </a:lnTo>
                <a:lnTo>
                  <a:pt x="58676" y="17972"/>
                </a:lnTo>
                <a:close/>
              </a:path>
              <a:path fill="lighten" w="62303" h="21600">
                <a:moveTo>
                  <a:pt x="0" y="21600"/>
                </a:moveTo>
                <a:lnTo>
                  <a:pt x="0" y="0"/>
                </a:lnTo>
                <a:lnTo>
                  <a:pt x="3628" y="3628"/>
                </a:lnTo>
                <a:lnTo>
                  <a:pt x="3628" y="17972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Vissz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189000"/>
            <a:ext cx="9144000" cy="63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99"/>
                </a:solidFill>
                <a:uFillTx/>
                <a:latin typeface="Arial"/>
                <a:ea typeface="Times New Roman"/>
              </a:rPr>
              <a:t>GDP megoszlása szektoronké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Mezőgazdaság: 6.1%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Ipar: 29.9%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Szolgáltatások: 64% (2005)  Ebből is látszik, hogy kiemelkedő ágazat a turizmus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99"/>
                </a:solidFill>
                <a:uFillTx/>
                <a:latin typeface="Arial"/>
                <a:ea typeface="Times New Roman"/>
              </a:rPr>
              <a:t>Munkaerő megoszlása foglalkoztatottság szeri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Mezőgazdaság és halászat 14%, Építkezés és ipar 36%, Szállítmányozás és kommunikáció 7%, Kereskedelem, éttermek, hotelek 16%, pénzügy 3%, Más szolgáltatások 24% (1995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99"/>
                </a:solidFill>
                <a:uFillTx/>
                <a:latin typeface="Arial"/>
                <a:ea typeface="Times New Roman"/>
              </a:rPr>
              <a:t>Munkanélküliségi rát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10.5% (2005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ff99"/>
                </a:solidFill>
                <a:uFillTx/>
                <a:latin typeface="Arial"/>
                <a:ea typeface="Times New Roman"/>
              </a:rPr>
              <a:t>Export partnerek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UK 33.1%, Franciaország 20.4%, US 14.8%, Madagaszkár 5.1%, Olaszország 4.1% (2004)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ff99"/>
                </a:solidFill>
                <a:uFillTx/>
                <a:latin typeface="Arial"/>
                <a:ea typeface="Times New Roman"/>
              </a:rPr>
              <a:t>Import partnerek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cc"/>
                </a:solidFill>
                <a:latin typeface="Arial"/>
                <a:ea typeface="Times New Roman"/>
              </a:rPr>
              <a:t>Dél-Afrika 11.3%, Kína 9.4%, India 9.3%, Franciaország 9.2%, Bahrain 5.3%, Japán 4.1% (2004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6227640" y="6014880"/>
            <a:ext cx="2125800" cy="454320"/>
          </a:xfrm>
          <a:custGeom>
            <a:avLst/>
            <a:gdLst>
              <a:gd name="textAreaLeft" fmla="*/ 27720 w 2125800"/>
              <a:gd name="textAreaRight" fmla="*/ 2098080 w 2125800"/>
              <a:gd name="textAreaTop" fmla="*/ 27720 h 454320"/>
              <a:gd name="textAreaBottom" fmla="*/ 426600 h 454320"/>
            </a:gdLst>
            <a:ahLst/>
            <a:rect l="textAreaLeft" t="textAreaTop" r="textAreaRight" b="textAreaBottom"/>
            <a:pathLst>
              <a:path w="101005" h="21600">
                <a:moveTo>
                  <a:pt x="0" y="0"/>
                </a:moveTo>
                <a:lnTo>
                  <a:pt x="101005" y="0"/>
                </a:lnTo>
                <a:lnTo>
                  <a:pt x="101005" y="21600"/>
                </a:lnTo>
                <a:lnTo>
                  <a:pt x="0" y="21600"/>
                </a:lnTo>
                <a:close/>
              </a:path>
              <a:path fill="lightenLess" w="101005" h="21600">
                <a:moveTo>
                  <a:pt x="0" y="0"/>
                </a:moveTo>
                <a:lnTo>
                  <a:pt x="101005" y="0"/>
                </a:lnTo>
                <a:lnTo>
                  <a:pt x="99684" y="1321"/>
                </a:lnTo>
                <a:lnTo>
                  <a:pt x="1321" y="1321"/>
                </a:lnTo>
                <a:close/>
              </a:path>
              <a:path fill="darken" w="101005" h="21600">
                <a:moveTo>
                  <a:pt x="101005" y="0"/>
                </a:moveTo>
                <a:lnTo>
                  <a:pt x="101005" y="21600"/>
                </a:lnTo>
                <a:lnTo>
                  <a:pt x="99684" y="20279"/>
                </a:lnTo>
                <a:lnTo>
                  <a:pt x="99684" y="1321"/>
                </a:lnTo>
                <a:close/>
              </a:path>
              <a:path fill="darkenLess" w="101005" h="21600">
                <a:moveTo>
                  <a:pt x="101005" y="21600"/>
                </a:moveTo>
                <a:lnTo>
                  <a:pt x="0" y="21600"/>
                </a:lnTo>
                <a:lnTo>
                  <a:pt x="1321" y="20279"/>
                </a:lnTo>
                <a:lnTo>
                  <a:pt x="99684" y="20279"/>
                </a:lnTo>
                <a:close/>
              </a:path>
              <a:path fill="lighten" w="101005" h="21600">
                <a:moveTo>
                  <a:pt x="0" y="21600"/>
                </a:moveTo>
                <a:lnTo>
                  <a:pt x="0" y="0"/>
                </a:lnTo>
                <a:lnTo>
                  <a:pt x="1321" y="1321"/>
                </a:lnTo>
                <a:lnTo>
                  <a:pt x="1321" y="2027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sz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0" y="685800"/>
            <a:ext cx="4419720" cy="762120"/>
          </a:xfrm>
          <a:custGeom>
            <a:avLst/>
            <a:gdLst>
              <a:gd name="textAreaLeft" fmla="*/ 190440 w 4419720"/>
              <a:gd name="textAreaRight" fmla="*/ 4229280 w 44197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125215" h="21600">
                <a:moveTo>
                  <a:pt x="0" y="0"/>
                </a:moveTo>
                <a:lnTo>
                  <a:pt x="125215" y="0"/>
                </a:lnTo>
                <a:lnTo>
                  <a:pt x="125215" y="21600"/>
                </a:lnTo>
                <a:lnTo>
                  <a:pt x="0" y="21600"/>
                </a:lnTo>
                <a:close/>
              </a:path>
              <a:path fill="lightenLess" w="125215" h="21600">
                <a:moveTo>
                  <a:pt x="0" y="0"/>
                </a:moveTo>
                <a:lnTo>
                  <a:pt x="125215" y="0"/>
                </a:lnTo>
                <a:lnTo>
                  <a:pt x="119815" y="5400"/>
                </a:lnTo>
                <a:lnTo>
                  <a:pt x="5400" y="5400"/>
                </a:lnTo>
                <a:close/>
              </a:path>
              <a:path fill="darken" w="125215" h="21600">
                <a:moveTo>
                  <a:pt x="125215" y="0"/>
                </a:moveTo>
                <a:lnTo>
                  <a:pt x="125215" y="21600"/>
                </a:lnTo>
                <a:lnTo>
                  <a:pt x="119815" y="16200"/>
                </a:lnTo>
                <a:lnTo>
                  <a:pt x="119815" y="5400"/>
                </a:lnTo>
                <a:close/>
              </a:path>
              <a:path fill="darkenLess" w="125215" h="21600">
                <a:moveTo>
                  <a:pt x="12521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19815" y="16200"/>
                </a:lnTo>
                <a:close/>
              </a:path>
              <a:path fill="lighten" w="12521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átnivalók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">
            <a:hlinkClick r:id="rId2" action="ppaction://hlinksldjump"/>
          </p:cNvPr>
          <p:cNvSpPr/>
          <p:nvPr/>
        </p:nvSpPr>
        <p:spPr>
          <a:xfrm>
            <a:off x="2209680" y="2209680"/>
            <a:ext cx="4419720" cy="762120"/>
          </a:xfrm>
          <a:custGeom>
            <a:avLst/>
            <a:gdLst>
              <a:gd name="textAreaLeft" fmla="*/ 190440 w 4419720"/>
              <a:gd name="textAreaRight" fmla="*/ 4229280 w 44197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125215" h="21600">
                <a:moveTo>
                  <a:pt x="0" y="0"/>
                </a:moveTo>
                <a:lnTo>
                  <a:pt x="125215" y="0"/>
                </a:lnTo>
                <a:lnTo>
                  <a:pt x="125215" y="21600"/>
                </a:lnTo>
                <a:lnTo>
                  <a:pt x="0" y="21600"/>
                </a:lnTo>
                <a:close/>
              </a:path>
              <a:path fill="lightenLess" w="125215" h="21600">
                <a:moveTo>
                  <a:pt x="0" y="0"/>
                </a:moveTo>
                <a:lnTo>
                  <a:pt x="125215" y="0"/>
                </a:lnTo>
                <a:lnTo>
                  <a:pt x="119815" y="5400"/>
                </a:lnTo>
                <a:lnTo>
                  <a:pt x="5400" y="5400"/>
                </a:lnTo>
                <a:close/>
              </a:path>
              <a:path fill="darken" w="125215" h="21600">
                <a:moveTo>
                  <a:pt x="125215" y="0"/>
                </a:moveTo>
                <a:lnTo>
                  <a:pt x="125215" y="21600"/>
                </a:lnTo>
                <a:lnTo>
                  <a:pt x="119815" y="16200"/>
                </a:lnTo>
                <a:lnTo>
                  <a:pt x="119815" y="5400"/>
                </a:lnTo>
                <a:close/>
              </a:path>
              <a:path fill="darkenLess" w="125215" h="21600">
                <a:moveTo>
                  <a:pt x="12521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19815" y="16200"/>
                </a:lnTo>
                <a:close/>
              </a:path>
              <a:path fill="lighten" w="12521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Gasztronómi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">
            <a:hlinkClick r:id="rId3" action="ppaction://hlinksldjump"/>
          </p:cNvPr>
          <p:cNvSpPr/>
          <p:nvPr/>
        </p:nvSpPr>
        <p:spPr>
          <a:xfrm>
            <a:off x="4267080" y="4267080"/>
            <a:ext cx="4419720" cy="762120"/>
          </a:xfrm>
          <a:custGeom>
            <a:avLst/>
            <a:gdLst>
              <a:gd name="textAreaLeft" fmla="*/ 190440 w 4419720"/>
              <a:gd name="textAreaRight" fmla="*/ 4229280 w 44197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125215" h="21600">
                <a:moveTo>
                  <a:pt x="0" y="0"/>
                </a:moveTo>
                <a:lnTo>
                  <a:pt x="125215" y="0"/>
                </a:lnTo>
                <a:lnTo>
                  <a:pt x="125215" y="21600"/>
                </a:lnTo>
                <a:lnTo>
                  <a:pt x="0" y="21600"/>
                </a:lnTo>
                <a:close/>
              </a:path>
              <a:path fill="lightenLess" w="125215" h="21600">
                <a:moveTo>
                  <a:pt x="0" y="0"/>
                </a:moveTo>
                <a:lnTo>
                  <a:pt x="125215" y="0"/>
                </a:lnTo>
                <a:lnTo>
                  <a:pt x="119815" y="5400"/>
                </a:lnTo>
                <a:lnTo>
                  <a:pt x="5400" y="5400"/>
                </a:lnTo>
                <a:close/>
              </a:path>
              <a:path fill="darken" w="125215" h="21600">
                <a:moveTo>
                  <a:pt x="125215" y="0"/>
                </a:moveTo>
                <a:lnTo>
                  <a:pt x="125215" y="21600"/>
                </a:lnTo>
                <a:lnTo>
                  <a:pt x="119815" y="16200"/>
                </a:lnTo>
                <a:lnTo>
                  <a:pt x="119815" y="5400"/>
                </a:lnTo>
                <a:close/>
              </a:path>
              <a:path fill="darkenLess" w="125215" h="21600">
                <a:moveTo>
                  <a:pt x="12521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19815" y="16200"/>
                </a:lnTo>
                <a:close/>
              </a:path>
              <a:path fill="lighten" w="12521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Hasznos információk egy kiutazónak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457200" y="1219320"/>
            <a:ext cx="2514600" cy="457200"/>
          </a:xfrm>
          <a:custGeom>
            <a:avLst/>
            <a:gdLst>
              <a:gd name="textAreaLeft" fmla="*/ 81000 w 2514600"/>
              <a:gd name="textAreaRight" fmla="*/ 2433600 w 251460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118724" h="21600">
                <a:moveTo>
                  <a:pt x="0" y="0"/>
                </a:moveTo>
                <a:lnTo>
                  <a:pt x="118724" y="0"/>
                </a:lnTo>
                <a:lnTo>
                  <a:pt x="118724" y="21600"/>
                </a:lnTo>
                <a:lnTo>
                  <a:pt x="0" y="21600"/>
                </a:lnTo>
                <a:close/>
              </a:path>
              <a:path fill="lightenLess" w="118724" h="21600">
                <a:moveTo>
                  <a:pt x="0" y="0"/>
                </a:moveTo>
                <a:lnTo>
                  <a:pt x="118724" y="0"/>
                </a:lnTo>
                <a:lnTo>
                  <a:pt x="114899" y="3825"/>
                </a:lnTo>
                <a:lnTo>
                  <a:pt x="3825" y="3825"/>
                </a:lnTo>
                <a:close/>
              </a:path>
              <a:path fill="darken" w="118724" h="21600">
                <a:moveTo>
                  <a:pt x="118724" y="0"/>
                </a:moveTo>
                <a:lnTo>
                  <a:pt x="118724" y="21600"/>
                </a:lnTo>
                <a:lnTo>
                  <a:pt x="114899" y="17775"/>
                </a:lnTo>
                <a:lnTo>
                  <a:pt x="114899" y="3825"/>
                </a:lnTo>
                <a:close/>
              </a:path>
              <a:path fill="darkenLess" w="118724" h="21600">
                <a:moveTo>
                  <a:pt x="118724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114899" y="17775"/>
                </a:lnTo>
                <a:close/>
              </a:path>
              <a:path fill="lighten" w="118724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2f1311"/>
                </a:solidFill>
                <a:latin typeface="Arial"/>
              </a:rPr>
              <a:t>Port-Lui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">
            <a:hlinkClick r:id="rId2" action="ppaction://hlinksldjump"/>
          </p:cNvPr>
          <p:cNvSpPr/>
          <p:nvPr/>
        </p:nvSpPr>
        <p:spPr>
          <a:xfrm>
            <a:off x="457200" y="1828800"/>
            <a:ext cx="2514600" cy="685800"/>
          </a:xfrm>
          <a:custGeom>
            <a:avLst/>
            <a:gdLst>
              <a:gd name="textAreaLeft" fmla="*/ 121320 w 2514600"/>
              <a:gd name="textAreaRight" fmla="*/ 2393280 w 2514600"/>
              <a:gd name="textAreaTop" fmla="*/ 121320 h 685800"/>
              <a:gd name="textAreaBottom" fmla="*/ 564480 h 685800"/>
            </a:gdLst>
            <a:ahLst/>
            <a:rect l="textAreaLeft" t="textAreaTop" r="textAreaRight" b="textAreaBottom"/>
            <a:pathLst>
              <a:path w="79170" h="21600">
                <a:moveTo>
                  <a:pt x="0" y="0"/>
                </a:moveTo>
                <a:lnTo>
                  <a:pt x="79170" y="0"/>
                </a:lnTo>
                <a:lnTo>
                  <a:pt x="79170" y="21600"/>
                </a:lnTo>
                <a:lnTo>
                  <a:pt x="0" y="21600"/>
                </a:lnTo>
                <a:close/>
              </a:path>
              <a:path fill="lightenLess" w="79170" h="21600">
                <a:moveTo>
                  <a:pt x="0" y="0"/>
                </a:moveTo>
                <a:lnTo>
                  <a:pt x="79170" y="0"/>
                </a:lnTo>
                <a:lnTo>
                  <a:pt x="75345" y="3825"/>
                </a:lnTo>
                <a:lnTo>
                  <a:pt x="3825" y="3825"/>
                </a:lnTo>
                <a:close/>
              </a:path>
              <a:path fill="darken" w="79170" h="21600">
                <a:moveTo>
                  <a:pt x="79170" y="0"/>
                </a:moveTo>
                <a:lnTo>
                  <a:pt x="79170" y="21600"/>
                </a:lnTo>
                <a:lnTo>
                  <a:pt x="75345" y="17775"/>
                </a:lnTo>
                <a:lnTo>
                  <a:pt x="75345" y="3825"/>
                </a:lnTo>
                <a:close/>
              </a:path>
              <a:path fill="darkenLess" w="79170" h="21600">
                <a:moveTo>
                  <a:pt x="79170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75345" y="17775"/>
                </a:lnTo>
                <a:close/>
              </a:path>
              <a:path fill="lighten" w="79170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Természettörténet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Múzeum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">
            <a:hlinkClick r:id="rId3" action="ppaction://hlinksldjump"/>
          </p:cNvPr>
          <p:cNvSpPr/>
          <p:nvPr/>
        </p:nvSpPr>
        <p:spPr>
          <a:xfrm>
            <a:off x="457200" y="2895480"/>
            <a:ext cx="2514600" cy="457200"/>
          </a:xfrm>
          <a:custGeom>
            <a:avLst/>
            <a:gdLst>
              <a:gd name="textAreaLeft" fmla="*/ 81000 w 2514600"/>
              <a:gd name="textAreaRight" fmla="*/ 2433600 w 251460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118724" h="21600">
                <a:moveTo>
                  <a:pt x="0" y="0"/>
                </a:moveTo>
                <a:lnTo>
                  <a:pt x="118724" y="0"/>
                </a:lnTo>
                <a:lnTo>
                  <a:pt x="118724" y="21600"/>
                </a:lnTo>
                <a:lnTo>
                  <a:pt x="0" y="21600"/>
                </a:lnTo>
                <a:close/>
              </a:path>
              <a:path fill="lightenLess" w="118724" h="21600">
                <a:moveTo>
                  <a:pt x="0" y="0"/>
                </a:moveTo>
                <a:lnTo>
                  <a:pt x="118724" y="0"/>
                </a:lnTo>
                <a:lnTo>
                  <a:pt x="114899" y="3825"/>
                </a:lnTo>
                <a:lnTo>
                  <a:pt x="3825" y="3825"/>
                </a:lnTo>
                <a:close/>
              </a:path>
              <a:path fill="darken" w="118724" h="21600">
                <a:moveTo>
                  <a:pt x="118724" y="0"/>
                </a:moveTo>
                <a:lnTo>
                  <a:pt x="118724" y="21600"/>
                </a:lnTo>
                <a:lnTo>
                  <a:pt x="114899" y="17775"/>
                </a:lnTo>
                <a:lnTo>
                  <a:pt x="114899" y="3825"/>
                </a:lnTo>
                <a:close/>
              </a:path>
              <a:path fill="darkenLess" w="118724" h="21600">
                <a:moveTo>
                  <a:pt x="118724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114899" y="17775"/>
                </a:lnTo>
                <a:close/>
              </a:path>
              <a:path fill="lighten" w="118724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Postamúzeum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">
            <a:hlinkClick r:id="rId4" action="ppaction://hlinksldjump"/>
          </p:cNvPr>
          <p:cNvSpPr/>
          <p:nvPr/>
        </p:nvSpPr>
        <p:spPr>
          <a:xfrm>
            <a:off x="468360" y="3645000"/>
            <a:ext cx="2519280" cy="622080"/>
          </a:xfrm>
          <a:custGeom>
            <a:avLst/>
            <a:gdLst>
              <a:gd name="textAreaLeft" fmla="*/ 110160 w 2519280"/>
              <a:gd name="textAreaRight" fmla="*/ 2409120 w 2519280"/>
              <a:gd name="textAreaTop" fmla="*/ 110160 h 622080"/>
              <a:gd name="textAreaBottom" fmla="*/ 511920 h 622080"/>
            </a:gdLst>
            <a:ahLst/>
            <a:rect l="textAreaLeft" t="textAreaTop" r="textAreaRight" b="textAreaBottom"/>
            <a:pathLst>
              <a:path w="87437" h="21600">
                <a:moveTo>
                  <a:pt x="0" y="0"/>
                </a:moveTo>
                <a:lnTo>
                  <a:pt x="87437" y="0"/>
                </a:lnTo>
                <a:lnTo>
                  <a:pt x="87437" y="21600"/>
                </a:lnTo>
                <a:lnTo>
                  <a:pt x="0" y="21600"/>
                </a:lnTo>
                <a:close/>
              </a:path>
              <a:path fill="lightenLess" w="87437" h="21600">
                <a:moveTo>
                  <a:pt x="0" y="0"/>
                </a:moveTo>
                <a:lnTo>
                  <a:pt x="87437" y="0"/>
                </a:lnTo>
                <a:lnTo>
                  <a:pt x="83612" y="3825"/>
                </a:lnTo>
                <a:lnTo>
                  <a:pt x="3825" y="3825"/>
                </a:lnTo>
                <a:close/>
              </a:path>
              <a:path fill="darken" w="87437" h="21600">
                <a:moveTo>
                  <a:pt x="87437" y="0"/>
                </a:moveTo>
                <a:lnTo>
                  <a:pt x="87437" y="21600"/>
                </a:lnTo>
                <a:lnTo>
                  <a:pt x="83612" y="17775"/>
                </a:lnTo>
                <a:lnTo>
                  <a:pt x="83612" y="3825"/>
                </a:lnTo>
                <a:close/>
              </a:path>
              <a:path fill="darkenLess" w="87437" h="21600">
                <a:moveTo>
                  <a:pt x="87437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83612" y="17775"/>
                </a:lnTo>
                <a:close/>
              </a:path>
              <a:path fill="lighten" w="87437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2f1311"/>
                </a:solidFill>
                <a:latin typeface="Arial"/>
              </a:rPr>
              <a:t>Seewoosagur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2f1311"/>
                </a:solidFill>
                <a:latin typeface="Arial"/>
              </a:rPr>
              <a:t>Ramgoolam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457200" y="4648320"/>
            <a:ext cx="2514600" cy="457200"/>
          </a:xfrm>
          <a:custGeom>
            <a:avLst/>
            <a:gdLst>
              <a:gd name="textAreaLeft" fmla="*/ 81000 w 2514600"/>
              <a:gd name="textAreaRight" fmla="*/ 2433600 w 251460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118724" h="21600">
                <a:moveTo>
                  <a:pt x="0" y="0"/>
                </a:moveTo>
                <a:lnTo>
                  <a:pt x="118724" y="0"/>
                </a:lnTo>
                <a:lnTo>
                  <a:pt x="118724" y="21600"/>
                </a:lnTo>
                <a:lnTo>
                  <a:pt x="0" y="21600"/>
                </a:lnTo>
                <a:close/>
              </a:path>
              <a:path fill="lightenLess" w="118724" h="21600">
                <a:moveTo>
                  <a:pt x="0" y="0"/>
                </a:moveTo>
                <a:lnTo>
                  <a:pt x="118724" y="0"/>
                </a:lnTo>
                <a:lnTo>
                  <a:pt x="114899" y="3825"/>
                </a:lnTo>
                <a:lnTo>
                  <a:pt x="3825" y="3825"/>
                </a:lnTo>
                <a:close/>
              </a:path>
              <a:path fill="darken" w="118724" h="21600">
                <a:moveTo>
                  <a:pt x="118724" y="0"/>
                </a:moveTo>
                <a:lnTo>
                  <a:pt x="118724" y="21600"/>
                </a:lnTo>
                <a:lnTo>
                  <a:pt x="114899" y="17775"/>
                </a:lnTo>
                <a:lnTo>
                  <a:pt x="114899" y="3825"/>
                </a:lnTo>
                <a:close/>
              </a:path>
              <a:path fill="darkenLess" w="118724" h="21600">
                <a:moveTo>
                  <a:pt x="118724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114899" y="17775"/>
                </a:lnTo>
                <a:close/>
              </a:path>
              <a:path fill="lighten" w="118724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2f1311"/>
                </a:solidFill>
                <a:latin typeface="Arial"/>
              </a:rPr>
              <a:t>Tamarind vízesé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">
            <a:hlinkClick r:id="rId5" action="ppaction://hlinksldjump"/>
          </p:cNvPr>
          <p:cNvSpPr/>
          <p:nvPr/>
        </p:nvSpPr>
        <p:spPr>
          <a:xfrm>
            <a:off x="5867280" y="4581360"/>
            <a:ext cx="2514600" cy="457200"/>
          </a:xfrm>
          <a:custGeom>
            <a:avLst/>
            <a:gdLst>
              <a:gd name="textAreaLeft" fmla="*/ 81000 w 2514600"/>
              <a:gd name="textAreaRight" fmla="*/ 2433600 w 251460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118724" h="21600">
                <a:moveTo>
                  <a:pt x="0" y="0"/>
                </a:moveTo>
                <a:lnTo>
                  <a:pt x="118724" y="0"/>
                </a:lnTo>
                <a:lnTo>
                  <a:pt x="118724" y="21600"/>
                </a:lnTo>
                <a:lnTo>
                  <a:pt x="0" y="21600"/>
                </a:lnTo>
                <a:close/>
              </a:path>
              <a:path fill="lightenLess" w="118724" h="21600">
                <a:moveTo>
                  <a:pt x="0" y="0"/>
                </a:moveTo>
                <a:lnTo>
                  <a:pt x="118724" y="0"/>
                </a:lnTo>
                <a:lnTo>
                  <a:pt x="114899" y="3825"/>
                </a:lnTo>
                <a:lnTo>
                  <a:pt x="3825" y="3825"/>
                </a:lnTo>
                <a:close/>
              </a:path>
              <a:path fill="darken" w="118724" h="21600">
                <a:moveTo>
                  <a:pt x="118724" y="0"/>
                </a:moveTo>
                <a:lnTo>
                  <a:pt x="118724" y="21600"/>
                </a:lnTo>
                <a:lnTo>
                  <a:pt x="114899" y="17775"/>
                </a:lnTo>
                <a:lnTo>
                  <a:pt x="114899" y="3825"/>
                </a:lnTo>
                <a:close/>
              </a:path>
              <a:path fill="darkenLess" w="118724" h="21600">
                <a:moveTo>
                  <a:pt x="118724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114899" y="17775"/>
                </a:lnTo>
                <a:close/>
              </a:path>
              <a:path fill="lighten" w="118724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Ünnepek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6" name="">
            <a:hlinkClick r:id="rId6" action="ppaction://hlinksldjump"/>
          </p:cNvPr>
          <p:cNvSpPr/>
          <p:nvPr/>
        </p:nvSpPr>
        <p:spPr>
          <a:xfrm>
            <a:off x="5867280" y="3733920"/>
            <a:ext cx="2514600" cy="457200"/>
          </a:xfrm>
          <a:custGeom>
            <a:avLst/>
            <a:gdLst>
              <a:gd name="textAreaLeft" fmla="*/ 81000 w 2514600"/>
              <a:gd name="textAreaRight" fmla="*/ 2433600 w 251460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118724" h="21600">
                <a:moveTo>
                  <a:pt x="0" y="0"/>
                </a:moveTo>
                <a:lnTo>
                  <a:pt x="118724" y="0"/>
                </a:lnTo>
                <a:lnTo>
                  <a:pt x="118724" y="21600"/>
                </a:lnTo>
                <a:lnTo>
                  <a:pt x="0" y="21600"/>
                </a:lnTo>
                <a:close/>
              </a:path>
              <a:path fill="lightenLess" w="118724" h="21600">
                <a:moveTo>
                  <a:pt x="0" y="0"/>
                </a:moveTo>
                <a:lnTo>
                  <a:pt x="118724" y="0"/>
                </a:lnTo>
                <a:lnTo>
                  <a:pt x="114899" y="3825"/>
                </a:lnTo>
                <a:lnTo>
                  <a:pt x="3825" y="3825"/>
                </a:lnTo>
                <a:close/>
              </a:path>
              <a:path fill="darken" w="118724" h="21600">
                <a:moveTo>
                  <a:pt x="118724" y="0"/>
                </a:moveTo>
                <a:lnTo>
                  <a:pt x="118724" y="21600"/>
                </a:lnTo>
                <a:lnTo>
                  <a:pt x="114899" y="17775"/>
                </a:lnTo>
                <a:lnTo>
                  <a:pt x="114899" y="3825"/>
                </a:lnTo>
                <a:close/>
              </a:path>
              <a:path fill="darkenLess" w="118724" h="21600">
                <a:moveTo>
                  <a:pt x="118724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114899" y="17775"/>
                </a:lnTo>
                <a:close/>
              </a:path>
              <a:path fill="lighten" w="118724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A hét színű föl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">
            <a:hlinkClick r:id="rId7" action="ppaction://hlinksldjump"/>
          </p:cNvPr>
          <p:cNvSpPr/>
          <p:nvPr/>
        </p:nvSpPr>
        <p:spPr>
          <a:xfrm>
            <a:off x="5867280" y="2895480"/>
            <a:ext cx="2514600" cy="457200"/>
          </a:xfrm>
          <a:custGeom>
            <a:avLst/>
            <a:gdLst>
              <a:gd name="textAreaLeft" fmla="*/ 81000 w 2514600"/>
              <a:gd name="textAreaRight" fmla="*/ 2433600 w 251460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118724" h="21600">
                <a:moveTo>
                  <a:pt x="0" y="0"/>
                </a:moveTo>
                <a:lnTo>
                  <a:pt x="118724" y="0"/>
                </a:lnTo>
                <a:lnTo>
                  <a:pt x="118724" y="21600"/>
                </a:lnTo>
                <a:lnTo>
                  <a:pt x="0" y="21600"/>
                </a:lnTo>
                <a:close/>
              </a:path>
              <a:path fill="lightenLess" w="118724" h="21600">
                <a:moveTo>
                  <a:pt x="0" y="0"/>
                </a:moveTo>
                <a:lnTo>
                  <a:pt x="118724" y="0"/>
                </a:lnTo>
                <a:lnTo>
                  <a:pt x="114899" y="3825"/>
                </a:lnTo>
                <a:lnTo>
                  <a:pt x="3825" y="3825"/>
                </a:lnTo>
                <a:close/>
              </a:path>
              <a:path fill="darken" w="118724" h="21600">
                <a:moveTo>
                  <a:pt x="118724" y="0"/>
                </a:moveTo>
                <a:lnTo>
                  <a:pt x="118724" y="21600"/>
                </a:lnTo>
                <a:lnTo>
                  <a:pt x="114899" y="17775"/>
                </a:lnTo>
                <a:lnTo>
                  <a:pt x="114899" y="3825"/>
                </a:lnTo>
                <a:close/>
              </a:path>
              <a:path fill="darkenLess" w="118724" h="21600">
                <a:moveTo>
                  <a:pt x="118724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114899" y="17775"/>
                </a:lnTo>
                <a:close/>
              </a:path>
              <a:path fill="lighten" w="118724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2f1311"/>
                </a:solidFill>
                <a:latin typeface="Arial"/>
              </a:rPr>
              <a:t>Sega tánc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">
            <a:hlinkClick r:id="rId8" action="ppaction://hlinksldjump"/>
          </p:cNvPr>
          <p:cNvSpPr/>
          <p:nvPr/>
        </p:nvSpPr>
        <p:spPr>
          <a:xfrm>
            <a:off x="5867280" y="2057400"/>
            <a:ext cx="2514600" cy="457200"/>
          </a:xfrm>
          <a:custGeom>
            <a:avLst/>
            <a:gdLst>
              <a:gd name="textAreaLeft" fmla="*/ 81000 w 2514600"/>
              <a:gd name="textAreaRight" fmla="*/ 2433600 w 251460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118724" h="21600">
                <a:moveTo>
                  <a:pt x="0" y="0"/>
                </a:moveTo>
                <a:lnTo>
                  <a:pt x="118724" y="0"/>
                </a:lnTo>
                <a:lnTo>
                  <a:pt x="118724" y="21600"/>
                </a:lnTo>
                <a:lnTo>
                  <a:pt x="0" y="21600"/>
                </a:lnTo>
                <a:close/>
              </a:path>
              <a:path fill="lightenLess" w="118724" h="21600">
                <a:moveTo>
                  <a:pt x="0" y="0"/>
                </a:moveTo>
                <a:lnTo>
                  <a:pt x="118724" y="0"/>
                </a:lnTo>
                <a:lnTo>
                  <a:pt x="114899" y="3825"/>
                </a:lnTo>
                <a:lnTo>
                  <a:pt x="3825" y="3825"/>
                </a:lnTo>
                <a:close/>
              </a:path>
              <a:path fill="darken" w="118724" h="21600">
                <a:moveTo>
                  <a:pt x="118724" y="0"/>
                </a:moveTo>
                <a:lnTo>
                  <a:pt x="118724" y="21600"/>
                </a:lnTo>
                <a:lnTo>
                  <a:pt x="114899" y="17775"/>
                </a:lnTo>
                <a:lnTo>
                  <a:pt x="114899" y="3825"/>
                </a:lnTo>
                <a:close/>
              </a:path>
              <a:path fill="darkenLess" w="118724" h="21600">
                <a:moveTo>
                  <a:pt x="118724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114899" y="17775"/>
                </a:lnTo>
                <a:close/>
              </a:path>
              <a:path fill="lighten" w="118724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Teknőspark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">
            <a:hlinkClick r:id="rId9" action="ppaction://hlinksldjump"/>
          </p:cNvPr>
          <p:cNvSpPr/>
          <p:nvPr/>
        </p:nvSpPr>
        <p:spPr>
          <a:xfrm>
            <a:off x="5867280" y="1219320"/>
            <a:ext cx="2514600" cy="457200"/>
          </a:xfrm>
          <a:custGeom>
            <a:avLst/>
            <a:gdLst>
              <a:gd name="textAreaLeft" fmla="*/ 81000 w 2514600"/>
              <a:gd name="textAreaRight" fmla="*/ 2433600 w 251460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118724" h="21600">
                <a:moveTo>
                  <a:pt x="0" y="0"/>
                </a:moveTo>
                <a:lnTo>
                  <a:pt x="118724" y="0"/>
                </a:lnTo>
                <a:lnTo>
                  <a:pt x="118724" y="21600"/>
                </a:lnTo>
                <a:lnTo>
                  <a:pt x="0" y="21600"/>
                </a:lnTo>
                <a:close/>
              </a:path>
              <a:path fill="lightenLess" w="118724" h="21600">
                <a:moveTo>
                  <a:pt x="0" y="0"/>
                </a:moveTo>
                <a:lnTo>
                  <a:pt x="118724" y="0"/>
                </a:lnTo>
                <a:lnTo>
                  <a:pt x="114899" y="3825"/>
                </a:lnTo>
                <a:lnTo>
                  <a:pt x="3825" y="3825"/>
                </a:lnTo>
                <a:close/>
              </a:path>
              <a:path fill="darken" w="118724" h="21600">
                <a:moveTo>
                  <a:pt x="118724" y="0"/>
                </a:moveTo>
                <a:lnTo>
                  <a:pt x="118724" y="21600"/>
                </a:lnTo>
                <a:lnTo>
                  <a:pt x="114899" y="17775"/>
                </a:lnTo>
                <a:lnTo>
                  <a:pt x="114899" y="3825"/>
                </a:lnTo>
                <a:close/>
              </a:path>
              <a:path fill="darkenLess" w="118724" h="21600">
                <a:moveTo>
                  <a:pt x="118724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114899" y="17775"/>
                </a:lnTo>
                <a:close/>
              </a:path>
              <a:path fill="lighten" w="118724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2f1311"/>
                </a:solidFill>
                <a:latin typeface="Arial"/>
              </a:rPr>
              <a:t>Bois Chér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">
            <a:hlinkClick r:id="rId10" action="ppaction://hlinksldjump"/>
          </p:cNvPr>
          <p:cNvSpPr/>
          <p:nvPr/>
        </p:nvSpPr>
        <p:spPr>
          <a:xfrm>
            <a:off x="5867280" y="5867280"/>
            <a:ext cx="2667240" cy="533520"/>
          </a:xfrm>
          <a:custGeom>
            <a:avLst/>
            <a:gdLst>
              <a:gd name="textAreaLeft" fmla="*/ 98280 w 2667240"/>
              <a:gd name="textAreaRight" fmla="*/ 2568960 w 2667240"/>
              <a:gd name="textAreaTop" fmla="*/ 98280 h 533520"/>
              <a:gd name="textAreaBottom" fmla="*/ 435240 h 533520"/>
            </a:gdLst>
            <a:ahLst/>
            <a:rect l="textAreaLeft" t="textAreaTop" r="textAreaRight" b="textAreaBottom"/>
            <a:pathLst>
              <a:path w="107927" h="21600">
                <a:moveTo>
                  <a:pt x="0" y="0"/>
                </a:moveTo>
                <a:lnTo>
                  <a:pt x="107927" y="0"/>
                </a:lnTo>
                <a:lnTo>
                  <a:pt x="107927" y="21600"/>
                </a:lnTo>
                <a:lnTo>
                  <a:pt x="0" y="21600"/>
                </a:lnTo>
                <a:close/>
              </a:path>
              <a:path fill="lightenLess" w="107927" h="21600">
                <a:moveTo>
                  <a:pt x="0" y="0"/>
                </a:moveTo>
                <a:lnTo>
                  <a:pt x="107927" y="0"/>
                </a:lnTo>
                <a:lnTo>
                  <a:pt x="103941" y="3986"/>
                </a:lnTo>
                <a:lnTo>
                  <a:pt x="3986" y="3986"/>
                </a:lnTo>
                <a:close/>
              </a:path>
              <a:path fill="darken" w="107927" h="21600">
                <a:moveTo>
                  <a:pt x="107927" y="0"/>
                </a:moveTo>
                <a:lnTo>
                  <a:pt x="107927" y="21600"/>
                </a:lnTo>
                <a:lnTo>
                  <a:pt x="103941" y="17614"/>
                </a:lnTo>
                <a:lnTo>
                  <a:pt x="103941" y="3986"/>
                </a:lnTo>
                <a:close/>
              </a:path>
              <a:path fill="darkenLess" w="107927" h="21600">
                <a:moveTo>
                  <a:pt x="107927" y="21600"/>
                </a:moveTo>
                <a:lnTo>
                  <a:pt x="0" y="21600"/>
                </a:lnTo>
                <a:lnTo>
                  <a:pt x="3986" y="17614"/>
                </a:lnTo>
                <a:lnTo>
                  <a:pt x="103941" y="17614"/>
                </a:lnTo>
                <a:close/>
              </a:path>
              <a:path fill="lighten" w="107927" h="21600">
                <a:moveTo>
                  <a:pt x="0" y="21600"/>
                </a:moveTo>
                <a:lnTo>
                  <a:pt x="0" y="0"/>
                </a:lnTo>
                <a:lnTo>
                  <a:pt x="3986" y="3986"/>
                </a:lnTo>
                <a:lnTo>
                  <a:pt x="3986" y="1761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Vissz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4:58:47Z</dcterms:created>
  <dc:creator>Méhész család</dc:creator>
  <dc:description/>
  <dc:language>en-US</dc:language>
  <cp:lastModifiedBy>Méhész család</cp:lastModifiedBy>
  <dcterms:modified xsi:type="dcterms:W3CDTF">2006-04-26T17:30:51Z</dcterms:modified>
  <cp:revision>46</cp:revision>
  <dc:subject/>
  <dc:title>1. dia</dc:title>
</cp:coreProperties>
</file>